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FB1-CC13-483D-87B6-4A6B1294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778-4B1F-4869-96E0-8A9B0763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E86-12FB-44CB-9D56-A7398030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720-0DFC-4F0B-88A3-9D856954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9A83-DFB9-4276-AF5A-54301F34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4484-7504-4701-8AD2-62403A34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848D-8CBE-4C77-9577-50699A7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781A-9DC1-48A5-9599-DA706F1D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C509-6F1F-45C1-B8D4-D2DF42E6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1428-E3DB-4BA5-9412-9A3A92C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C8ED-A7EB-45F4-B99C-842520C2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139-5DB2-4237-906F-3E0B5E4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14EB-94DE-4D3E-B016-F4404F39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8C80-A4D2-451A-AD19-276A60D4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9776-EB80-442C-860C-AE8BEF6E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2A15-DEAE-4634-8E00-F8F2B26B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4737-0805-4B50-A1CB-C9C4C7C7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9039-69F9-460A-BB48-AD95C72A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3D93B-316D-4252-9212-F7167881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4E32-0055-4794-9219-675860A5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77CD-1C21-4B54-8B10-44CDE638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7A9F-4D80-4D96-82F9-D8C58979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A27-C866-4E2D-BCD8-F30142D0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A8025-BBEF-4B62-9226-3B5DDBAF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744B-2F58-4F11-93DF-DEE4C8D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18D0-BDB0-416C-8647-372D7F0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97AF-DC85-424A-AE85-C5A8C983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3B19-D6D4-4DEB-92F4-DB8EA942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A96E-9DDF-499C-9AF7-E8F5C10A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84FF-B5D7-4309-9A8C-55CE47F1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E3247-8A0F-4282-8441-747D662A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42D68-5880-4960-BB0F-6BED359C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B7FA-77AC-4D5D-91A1-03F73162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FF6-0F64-4CDE-8B68-45938CD5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180B-2790-4494-861A-5324D267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2C4D-B1FD-43A0-A08E-9E675111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4C0B-3F6D-4365-B271-CC05AC1B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187A0-2788-48B4-98E1-880A58F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59B4-AA46-4EC0-8014-114C657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AE3C-D6ED-4C16-9F37-B351671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8754-1EF3-4D26-B69E-F27FC054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C160-3C0F-41AD-A3FE-BF69F6D6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28FD-BCB8-4669-9F80-21E3F83D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A8F-DC80-4A0C-9BFB-9A4DC8BE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E80-ABAF-48DB-ACC2-87AA6E8F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A6F-FFC2-4253-A1C2-15049D2B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2DD6-0297-4A64-9D64-74C7A13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036-C006-4C7D-B850-7B43156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0762-BDBD-44F2-9869-5C735C3BE0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DBBB-CE39-45A5-852D-5DA7558FB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AF8-053C-46BD-B752-302CD6CAC4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144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851cc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EFE6-B4B7-4142-A9E5-05000A66A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68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5480" y="1214280"/>
            <a:ext cx="838836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00"/>
                </a:solidFill>
                <a:latin typeface="Arial"/>
              </a:rPr>
              <a:t>Работа </a:t>
            </a:r>
            <a:br>
              <a:rPr sz="6500"/>
            </a:br>
            <a:r>
              <a:rPr b="1" i="1" lang="ru-RU" sz="6500" spc="-1" strike="noStrike">
                <a:solidFill>
                  <a:srgbClr val="ffff00"/>
                </a:solidFill>
                <a:latin typeface="Arial"/>
              </a:rPr>
              <a:t>с интерактивной доской </a:t>
            </a:r>
            <a:r>
              <a:rPr b="1" i="1" lang="en-US" sz="6500" spc="-1" strike="noStrike">
                <a:solidFill>
                  <a:srgbClr val="ffff00"/>
                </a:solidFill>
                <a:latin typeface="Arial"/>
              </a:rPr>
              <a:t>StarBoard</a:t>
            </a:r>
            <a:endParaRPr b="0" lang="en-US" sz="6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71680" y="4214520"/>
            <a:ext cx="8137440" cy="22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рисов В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ноармейск 2008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Возможности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ahoma"/>
              </a:rPr>
              <a:t>и операции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ahoma"/>
              </a:rPr>
              <a:t>StarBoard Software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E251-FEBE-4D5E-8736-90AA99273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ругие полезные функци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285840" y="2214720"/>
          <a:ext cx="8629560" cy="3687480"/>
        </p:xfrm>
        <a:graphic>
          <a:graphicData uri="http://schemas.openxmlformats.org/drawingml/2006/table">
            <a:tbl>
              <a:tblPr/>
              <a:tblGrid>
                <a:gridCol w="3714840"/>
                <a:gridCol w="491472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тинки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авляет в документ разнообразные картинки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катор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ображает текущий инструмент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ойства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ъек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меняет цвет заливки, цвет и толщины линий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56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56A3-F4D7-45FB-9DAE-E01DC7EF5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Рисунок 78" descr="C:\Program Files\Hitachi Software Engineering\StarBoard Software\content\help\image\icon\ClipArt.gif"/>
          <p:cNvPicPr/>
          <p:nvPr/>
        </p:nvPicPr>
        <p:blipFill>
          <a:blip r:embed="rId1"/>
          <a:stretch/>
        </p:blipFill>
        <p:spPr>
          <a:xfrm>
            <a:off x="357120" y="2286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79" descr="C:\Program Files\Hitachi Software Engineering\StarBoard Software\content\help\image\icon\Indicator.gif"/>
          <p:cNvPicPr/>
          <p:nvPr/>
        </p:nvPicPr>
        <p:blipFill>
          <a:blip r:embed="rId2"/>
          <a:stretch/>
        </p:blipFill>
        <p:spPr>
          <a:xfrm>
            <a:off x="357120" y="38577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80" descr="C:\Program Files\Hitachi Software Engineering\StarBoard Software\content\help\image\icon\Property.gif"/>
          <p:cNvPicPr/>
          <p:nvPr/>
        </p:nvPicPr>
        <p:blipFill>
          <a:blip r:embed="rId3"/>
          <a:stretch/>
        </p:blipFill>
        <p:spPr>
          <a:xfrm>
            <a:off x="357120" y="492912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ругие полезные функци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285840" y="2071800"/>
          <a:ext cx="8643960" cy="4449600"/>
        </p:xfrm>
        <a:graphic>
          <a:graphicData uri="http://schemas.openxmlformats.org/drawingml/2006/table">
            <a:tbl>
              <a:tblPr/>
              <a:tblGrid>
                <a:gridCol w="4141800"/>
                <a:gridCol w="4502160"/>
              </a:tblGrid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казать/Скры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ст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я каждой страницы позволяет делать записи в базовую часть листа и на сам лист. Включает/отключает показ верхнего листа (при этом базовая часть видна всегда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тек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зволяет распознавать и форматировать текст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7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820D-BE49-43D5-972B-64F9B43314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Рисунок 81" descr="C:\Program Files\Hitachi Software Engineering\StarBoard Software\content\help\image\icon\Sheet.gif"/>
          <p:cNvPicPr/>
          <p:nvPr/>
        </p:nvPicPr>
        <p:blipFill>
          <a:blip r:embed="rId1"/>
          <a:stretch/>
        </p:blipFill>
        <p:spPr>
          <a:xfrm>
            <a:off x="357120" y="2143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82" descr="C:\Program Files\Hitachi Software Engineering\StarBoard Software\content\help\image\icon\FEP.gif"/>
          <p:cNvPicPr/>
          <p:nvPr/>
        </p:nvPicPr>
        <p:blipFill>
          <a:blip r:embed="rId2"/>
          <a:stretch/>
        </p:blipFill>
        <p:spPr>
          <a:xfrm>
            <a:off x="357120" y="5643720"/>
            <a:ext cx="571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ругие полезные функци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14200" y="2071800"/>
          <a:ext cx="8740800" cy="4084560"/>
        </p:xfrm>
        <a:graphic>
          <a:graphicData uri="http://schemas.openxmlformats.org/drawingml/2006/table">
            <a:tbl>
              <a:tblPr/>
              <a:tblGrid>
                <a:gridCol w="4357800"/>
                <a:gridCol w="438300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тка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казывает сетку на экране. Позволяет привязывать объекты к линиям сетки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полнитель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унк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полнения, такие как таймер Таймер, или экранная Лупа ChottoSpot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7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95BE-4EBE-4CC4-A650-DEFBB25E5D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исунок 83" descr="C:\Program Files\Hitachi Software Engineering\StarBoard Software\content\help\image\icon\Grid.gif"/>
          <p:cNvPicPr/>
          <p:nvPr/>
        </p:nvPicPr>
        <p:blipFill>
          <a:blip r:embed="rId1"/>
          <a:stretch/>
        </p:blipFill>
        <p:spPr>
          <a:xfrm>
            <a:off x="285840" y="21430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84" descr="C:\Program Files\Hitachi Software Engineering\StarBoard Software\content\help\image\icon\Accessory.gif"/>
          <p:cNvPicPr/>
          <p:nvPr/>
        </p:nvPicPr>
        <p:blipFill>
          <a:blip r:embed="rId2"/>
          <a:stretch/>
        </p:blipFill>
        <p:spPr>
          <a:xfrm>
            <a:off x="285840" y="42148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a4076"/>
                </a:solidFill>
                <a:latin typeface="Tahoma"/>
              </a:rPr>
              <a:t>Преобразование рукописного текста в текстовый вид</a:t>
            </a:r>
            <a:endParaRPr b="0" lang="en-US" sz="35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75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Вы можете преобразовать Ваш рукописный текст в текстовый вид.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75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Когда выбран рукописный текст, сверху Всплывающего меню появятся 3 строки с вариантами преобразования текста.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75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При выборе одной из строк рукописный текст будет преобразован в текстовый вид.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75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Полный список вариантов преобразования будет отображен при выборе [Дополнительно…] из меню.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75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C98F-683B-4571-9D85-77BE9358C1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a4076"/>
                </a:solidFill>
                <a:latin typeface="Tahoma"/>
              </a:rPr>
              <a:t>Преобразование рукописного текста в текстовый вид</a:t>
            </a:r>
            <a:endParaRPr b="0" lang="en-US" sz="35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ыбрано несколько частей рукописного текста, все части будут объединены и преобразованы в единый текс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использовать эту функцию, Вам необходимо подсоединить StarBoard к ПК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DD59-B3BA-44F7-A998-77F3174965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Рисунок 94" descr="C:\Program Files\Hitachi Software Engineering\StarBoard Software\content\help\image\recognition.gif"/>
          <p:cNvPicPr/>
          <p:nvPr/>
        </p:nvPicPr>
        <p:blipFill>
          <a:blip r:embed="rId1"/>
          <a:stretch/>
        </p:blipFill>
        <p:spPr>
          <a:xfrm>
            <a:off x="2143080" y="4330800"/>
            <a:ext cx="3738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иалог Свойства объекта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437-E8D0-4B42-B3FF-6EF8060954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116" descr="C:\Program Files\Hitachi Software Engineering\StarBoard Software\content\help\image\Dialog\property_shape.gif"/>
          <p:cNvPicPr/>
          <p:nvPr/>
        </p:nvPicPr>
        <p:blipFill>
          <a:blip r:embed="rId1"/>
          <a:stretch/>
        </p:blipFill>
        <p:spPr>
          <a:xfrm>
            <a:off x="357120" y="3355920"/>
            <a:ext cx="1500120" cy="301140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117" descr="C:\Program Files\Hitachi Software Engineering\StarBoard Software\content\help\image\Dialog\property_triangle.gif"/>
          <p:cNvPicPr/>
          <p:nvPr/>
        </p:nvPicPr>
        <p:blipFill>
          <a:blip r:embed="rId2"/>
          <a:stretch/>
        </p:blipFill>
        <p:spPr>
          <a:xfrm>
            <a:off x="2500200" y="2143080"/>
            <a:ext cx="1785960" cy="424656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118" descr="C:\Program Files\Hitachi Software Engineering\StarBoard Software\content\help\image\Dialog\property_arrow.gif"/>
          <p:cNvPicPr/>
          <p:nvPr/>
        </p:nvPicPr>
        <p:blipFill>
          <a:blip r:embed="rId3"/>
          <a:stretch/>
        </p:blipFill>
        <p:spPr>
          <a:xfrm>
            <a:off x="5072040" y="3357720"/>
            <a:ext cx="1685880" cy="300960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119" descr="C:\Program Files\Hitachi Software Engineering\StarBoard Software\content\help\image\Dialog\property_text.gif"/>
          <p:cNvPicPr/>
          <p:nvPr/>
        </p:nvPicPr>
        <p:blipFill>
          <a:blip r:embed="rId4"/>
          <a:stretch/>
        </p:blipFill>
        <p:spPr>
          <a:xfrm>
            <a:off x="7358040" y="1987560"/>
            <a:ext cx="1571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Обзор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этого момента свойства создаваемого или уже созданного объекта могут быть изменен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реди объектов, с теми, что были созданы рукописно, есть и другие типы - текст, прямоугольник, эллипс, ромб, треугольник, линия, и стрел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D539-D167-4B22-9236-AB7F834A90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Обзор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ойства зависят от пера, линии &amp; стрелки, геометрического объекта и группы текста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Геометрические объекты включают в себя прямоугольник, эллипс, ромб, треугольник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стройки для геометрического объекта (квадрат, эллипс, ромб, треугольник) становятся общи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55A7-97A5-4168-9E15-B214799F08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Обзор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бран какой-либо объект, изменение свойств отражается только на не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ежиме Конференции отменяется выбор объекта после изменения его свойств. Для дальнейших изменений необходимо выделить объект сно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6CEB-63DC-4ED4-A52A-37ACB91BAA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Объект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ображается набор свойств объек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73C-5FD2-4C9C-8716-6B22634B3C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анель инструментов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85840" y="2017800"/>
            <a:ext cx="492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запуске StarBoard Software в режиме панели инструментов отображается следующий экра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C14-8EC6-4D0F-8C5C-979F9E0AB3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7" descr=""/>
          <p:cNvPicPr/>
          <p:nvPr/>
        </p:nvPicPr>
        <p:blipFill>
          <a:blip r:embed="rId1"/>
          <a:stretch/>
        </p:blipFill>
        <p:spPr>
          <a:xfrm>
            <a:off x="5072040" y="1928880"/>
            <a:ext cx="3909960" cy="2795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"/>
          <p:cNvPicPr/>
          <p:nvPr/>
        </p:nvPicPr>
        <p:blipFill>
          <a:blip r:embed="rId2"/>
          <a:stretch/>
        </p:blipFill>
        <p:spPr>
          <a:xfrm>
            <a:off x="5072040" y="5072040"/>
            <a:ext cx="38624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Линия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брана [Палитра]      , то можно поменять цвет лин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выборе [Толщины линии]       можно изменить толщину лин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граничивающая линия может быть снята, если отметить [C линией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73FB-8F96-4D41-B7D6-1FCC36754D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Рисунок 120" descr="C:\Program Files\Hitachi Software Engineering\StarBoard Software\content\help\image\Icon\PenColor.gif"/>
          <p:cNvPicPr/>
          <p:nvPr/>
        </p:nvPicPr>
        <p:blipFill>
          <a:blip r:embed="rId1"/>
          <a:stretch/>
        </p:blipFill>
        <p:spPr>
          <a:xfrm>
            <a:off x="5500800" y="20001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09" name="Рисунок 121" descr="C:\Program Files\Hitachi Software Engineering\StarBoard Software\content\help\image\Icon\LineWidth.gif"/>
          <p:cNvPicPr/>
          <p:nvPr/>
        </p:nvPicPr>
        <p:blipFill>
          <a:blip r:embed="rId2"/>
          <a:stretch/>
        </p:blipFill>
        <p:spPr>
          <a:xfrm>
            <a:off x="6572160" y="3143160"/>
            <a:ext cx="5493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Обводк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вет обводки может быть задан для фигуры или для текс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выборе [Полупрозрачность], граница будет выделены полупрозрачными линия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04AE-2250-4CE6-903A-31524FD7B9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Образ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ется только с треугольниками и со стрелк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анавливает образ объектов (равнобедренные треугольники, равносторонние треугольники, стрелки с одним указателем, стрелки с двумя указателями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72C0-6322-4392-8BF0-B7F95A5047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Шрифт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ется только для текстовых объек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воляет выбирать шрифт, жирность и подчеркивание для текстовых объек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7E76-0A1C-4DB1-8BAB-AB80D52853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емещение Панели инструментов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мите пером внутри красного круж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74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отрывая пера, переместите Панель инструментов в нужное мест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DAEF-3C47-43BC-83EB-F9EF191ED1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9" descr="C:\Program Files\Hitachi Software Engineering\StarBoard Software\content\help\image\toolbar_move.gif"/>
          <p:cNvPicPr/>
          <p:nvPr/>
        </p:nvPicPr>
        <p:blipFill>
          <a:blip r:embed="rId1"/>
          <a:stretch/>
        </p:blipFill>
        <p:spPr>
          <a:xfrm>
            <a:off x="1143000" y="2714760"/>
            <a:ext cx="6827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ыбор меню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120" y="2017800"/>
            <a:ext cx="514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мите кнопку StarBoar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этом отобразится меню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736E-D653-4886-AADF-C7ACF255B0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1" descr="C:\Program Files\Hitachi Software Engineering\StarBoard Software\content\help\image\dbbutton.gif"/>
          <p:cNvPicPr/>
          <p:nvPr/>
        </p:nvPicPr>
        <p:blipFill>
          <a:blip r:embed="rId1"/>
          <a:stretch/>
        </p:blipFill>
        <p:spPr>
          <a:xfrm>
            <a:off x="1643040" y="31431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3" descr=""/>
          <p:cNvPicPr/>
          <p:nvPr/>
        </p:nvPicPr>
        <p:blipFill>
          <a:blip r:embed="rId2"/>
          <a:stretch/>
        </p:blipFill>
        <p:spPr>
          <a:xfrm>
            <a:off x="5143680" y="2143080"/>
            <a:ext cx="3738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ыбор меню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ню имеет иерархическую структуру. Выберите, чем вы хотите воспользоватьс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полнительно, можно выбирать пункты меню, добавленные непосредственно на Панель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A051-E4E7-440B-8C4D-87FFEB0E10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6" descr="C:\Program Files\Hitachi Software Engineering\StarBoard Software\content\help\image\toolbar.gif"/>
          <p:cNvPicPr/>
          <p:nvPr/>
        </p:nvPicPr>
        <p:blipFill>
          <a:blip r:embed="rId1"/>
          <a:stretch/>
        </p:blipFill>
        <p:spPr>
          <a:xfrm>
            <a:off x="1643040" y="5214960"/>
            <a:ext cx="5429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4076"/>
                </a:solidFill>
                <a:latin typeface="Tahoma"/>
              </a:rPr>
              <a:t>Добавление пунктов меню на Панель инструментов </a:t>
            </a:r>
            <a:endParaRPr b="0" lang="en-US" sz="4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85840" y="201780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асто используемые пункты меню можно добавить на Панель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добавить пункт меню перетащите его из меню на Панель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8B2E-6040-44D9-A023-9125741006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9" descr="C:\Program Files\Hitachi Software Engineering\StarBoard Software\content\help\image\toolbar_dnd.gif"/>
          <p:cNvPicPr/>
          <p:nvPr/>
        </p:nvPicPr>
        <p:blipFill>
          <a:blip r:embed="rId1"/>
          <a:stretch/>
        </p:blipFill>
        <p:spPr>
          <a:xfrm>
            <a:off x="5000760" y="1901880"/>
            <a:ext cx="39430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Удаление пунктов меню с Панели инструментов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5480" y="200016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Чтобы удалить пункт меню с Панели инструментов, нажмите на него и удерживайте его некоторое время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Через короткий промежуток времени курсор обретет форму корзины. Не отпуская кнопки, переместите пункт меню за пределы Панели инструментов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9C5-1529-4BAB-89F0-EF17C9358C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21" descr="C:\Program Files\Hitachi Software Engineering\StarBoard Software\content\help\image\toolbar_del.gif"/>
          <p:cNvPicPr/>
          <p:nvPr/>
        </p:nvPicPr>
        <p:blipFill>
          <a:blip r:embed="rId1"/>
          <a:stretch/>
        </p:blipFill>
        <p:spPr>
          <a:xfrm>
            <a:off x="4429080" y="4940280"/>
            <a:ext cx="39006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a4076"/>
                </a:solidFill>
                <a:latin typeface="Tahoma"/>
              </a:rPr>
              <a:t>Разворачивание / Сворачивание Панели инструментов </a:t>
            </a:r>
            <a:endParaRPr b="0" lang="en-US" sz="35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свернуть Панель инструментов, нажмите на кнопку сворачив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инимизированная панель инструментов будет полупрозрачн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озвратиться к исходной панели, нажмите кнопку сворачивания еще ра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F4C-301F-4ACE-A541-D11BE1E56C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Изменение направления Панели инструментов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85480" y="2017800"/>
            <a:ext cx="47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поменять направление Панели инструментов, нажмите на кнопку сворачивания и поворачивайте панель вокруг кнопки StarBoar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E215-ADF3-4AE8-A115-B192D6C52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25" descr="C:\Program Files\Hitachi Software Engineering\StarBoard Software\content\help\image\toolbar_dir.gif"/>
          <p:cNvPicPr/>
          <p:nvPr/>
        </p:nvPicPr>
        <p:blipFill>
          <a:blip r:embed="rId1"/>
          <a:stretch/>
        </p:blipFill>
        <p:spPr>
          <a:xfrm>
            <a:off x="5054760" y="2357280"/>
            <a:ext cx="39319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4076"/>
                </a:solidFill>
                <a:latin typeface="Tahoma"/>
              </a:rPr>
              <a:t>Изменение числа колонок в Панели инструментов</a:t>
            </a:r>
            <a:endParaRPr b="0" lang="en-US" sz="4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3840" y="2017800"/>
            <a:ext cx="4929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изменит число колонок в Панели инструментов, нажмите кнопку сворачивания и, не отпуская ее, перемещайте ее в сторону кнопки StarBoar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80D8-2BF2-4E23-86F9-CF3AC614DB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27" descr="C:\Program Files\Hitachi Software Engineering\StarBoard Software\content\help\image\toolbar_row.gif"/>
          <p:cNvPicPr/>
          <p:nvPr/>
        </p:nvPicPr>
        <p:blipFill>
          <a:blip r:embed="rId1"/>
          <a:stretch/>
        </p:blipFill>
        <p:spPr>
          <a:xfrm>
            <a:off x="4714920" y="2787480"/>
            <a:ext cx="41670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B66C-A6D1-4D13-ADE1-C76E52BD15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7280" y="213840"/>
            <a:ext cx="775656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a4076"/>
                </a:solidFill>
                <a:latin typeface="Tahoma"/>
              </a:rPr>
              <a:t>Возможности </a:t>
            </a:r>
            <a:br>
              <a:rPr sz="4400"/>
            </a:br>
            <a:r>
              <a:rPr b="1" lang="ru-RU" sz="4400" spc="-1" strike="noStrike">
                <a:solidFill>
                  <a:srgbClr val="6a4076"/>
                </a:solidFill>
                <a:latin typeface="Tahoma"/>
              </a:rPr>
              <a:t>ИД </a:t>
            </a: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StarBoard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546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Нарисованные заметки сохраняются в виде данны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Рисунок 1" descr=""/>
          <p:cNvPicPr/>
          <p:nvPr/>
        </p:nvPicPr>
        <p:blipFill>
          <a:blip r:embed="rId1"/>
          <a:stretch/>
        </p:blipFill>
        <p:spPr>
          <a:xfrm>
            <a:off x="5786280" y="2405160"/>
            <a:ext cx="304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исование / Стир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нарисовать линию, выберите [Перо]       , и используйте его для рисов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стереть линию, выберите [Ластик]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и проведите им по существующей лин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стереть линию полностью, нажмите [Очистить] 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824E-DCC8-42C2-B90D-3B10C3F555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9" descr="C:\Program Files\Hitachi Software Engineering\StarBoard Software\content\help\image\icon\HandPen.gif"/>
          <p:cNvPicPr/>
          <p:nvPr/>
        </p:nvPicPr>
        <p:blipFill>
          <a:blip r:embed="rId1"/>
          <a:stretch/>
        </p:blipFill>
        <p:spPr>
          <a:xfrm>
            <a:off x="2143080" y="2571840"/>
            <a:ext cx="642960" cy="5713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0" descr="C:\Program Files\Hitachi Software Engineering\StarBoard Software\content\help\image\icon\Eraser.gif"/>
          <p:cNvPicPr/>
          <p:nvPr/>
        </p:nvPicPr>
        <p:blipFill>
          <a:blip r:embed="rId2"/>
          <a:stretch/>
        </p:blipFill>
        <p:spPr>
          <a:xfrm>
            <a:off x="500040" y="414324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1" descr="C:\Program Files\Hitachi Software Engineering\StarBoard Software\content\help\image\icon\Clear.gif"/>
          <p:cNvPicPr/>
          <p:nvPr/>
        </p:nvPicPr>
        <p:blipFill>
          <a:blip r:embed="rId3"/>
          <a:stretch/>
        </p:blipFill>
        <p:spPr>
          <a:xfrm>
            <a:off x="4714920" y="57862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исование / Стир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изменить цвет пера, нажмите [Палитра]      . При этом отобразится следующий диалог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74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кажите цвет, который вы хотите использов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EB67-6D1B-4BEC-8423-9320B558E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32" descr="C:\Program Files\Hitachi Software Engineering\StarBoard Software\content\help\image\icon\PenColor.gif"/>
          <p:cNvPicPr/>
          <p:nvPr/>
        </p:nvPicPr>
        <p:blipFill>
          <a:blip r:embed="rId1"/>
          <a:stretch/>
        </p:blipFill>
        <p:spPr>
          <a:xfrm>
            <a:off x="2786040" y="25002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3" descr="C:\Program Files\Hitachi Software Engineering\StarBoard Software\content\help\image\dialog\PenPalette.gif"/>
          <p:cNvPicPr/>
          <p:nvPr/>
        </p:nvPicPr>
        <p:blipFill>
          <a:blip r:embed="rId2"/>
          <a:stretch/>
        </p:blipFill>
        <p:spPr>
          <a:xfrm>
            <a:off x="2714760" y="3571920"/>
            <a:ext cx="26906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исование / Стир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настройки положения и вида диалогового окна «Палитра», щелкните на кнопке с пиктограммой булавки 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083E-F1DB-49A5-AF61-07CE9D0B2C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34" descr="C:\Program Files\Hitachi Software Engineering\StarBoard Software\content\help\image\icon\Pinbutton.gif"/>
          <p:cNvPicPr/>
          <p:nvPr/>
        </p:nvPicPr>
        <p:blipFill>
          <a:blip r:embed="rId1"/>
          <a:stretch/>
        </p:blipFill>
        <p:spPr>
          <a:xfrm>
            <a:off x="7500960" y="3000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исование / Стир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изменить толщину линии пера, выберите Толщина линии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образится следующий диало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D809-3965-4389-BDD0-B0CD66036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37" descr="C:\Program Files\Hitachi Software Engineering\StarBoard Software\content\help\image\icon\LineWidth.gif"/>
          <p:cNvPicPr/>
          <p:nvPr/>
        </p:nvPicPr>
        <p:blipFill>
          <a:blip r:embed="rId1"/>
          <a:stretch/>
        </p:blipFill>
        <p:spPr>
          <a:xfrm>
            <a:off x="5786280" y="2571840"/>
            <a:ext cx="481320" cy="5000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8" descr="C:\Program Files\Hitachi Software Engineering\StarBoard Software\content\help\image\dialog\widthdlg.gif"/>
          <p:cNvPicPr/>
          <p:nvPr/>
        </p:nvPicPr>
        <p:blipFill>
          <a:blip r:embed="rId2"/>
          <a:stretch/>
        </p:blipFill>
        <p:spPr>
          <a:xfrm>
            <a:off x="2786040" y="3643200"/>
            <a:ext cx="16430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исование / Стир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кажите требуемую толщин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настройки положения и вида диалогового окна «Толщина линии» щелкните на кнопке с пиктограммой булавки     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4605-2C9E-4084-A8FA-6A88BF986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49" descr="C:\Program Files\Hitachi Software Engineering\StarBoard Software\content\help\image\icon\Pinbutton.gif"/>
          <p:cNvPicPr/>
          <p:nvPr/>
        </p:nvPicPr>
        <p:blipFill>
          <a:blip r:embed="rId1"/>
          <a:stretch/>
        </p:blipFill>
        <p:spPr>
          <a:xfrm>
            <a:off x="2428920" y="4143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рокрутк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85480" y="20178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прокрутить страницу, нажмите [Прокрутка]      , захватите страницу и перемещайте ее вверх/вни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прокрутки также может быть использована [Навигация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8ED6-FE69-4B1E-B17D-35C004973E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52" descr="C:\Program Files\Hitachi Software Engineering\StarBoard Software\content\help\image\icon\Scroll.gif"/>
          <p:cNvPicPr/>
          <p:nvPr/>
        </p:nvPicPr>
        <p:blipFill>
          <a:blip r:embed="rId1"/>
          <a:stretch/>
        </p:blipFill>
        <p:spPr>
          <a:xfrm>
            <a:off x="3143160" y="2571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3" descr="C:\Program Files\Hitachi Software Engineering\StarBoard Software\content\help\image\icon\Navigation.gif"/>
          <p:cNvPicPr/>
          <p:nvPr/>
        </p:nvPicPr>
        <p:blipFill>
          <a:blip r:embed="rId2"/>
          <a:stretch/>
        </p:blipFill>
        <p:spPr>
          <a:xfrm>
            <a:off x="5857920" y="414324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рокрутк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ажатии на кнопку отображается следующий диалог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74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емещая курсор внутри окна можно просматривать страниц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0561-E4A6-484B-B614-DF31E4FA9C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54" descr="C:\Program Files\Hitachi Software Engineering\StarBoard Software\content\help\image\dialog\navigation.gif"/>
          <p:cNvPicPr/>
          <p:nvPr/>
        </p:nvPicPr>
        <p:blipFill>
          <a:blip r:embed="rId1"/>
          <a:stretch/>
        </p:blipFill>
        <p:spPr>
          <a:xfrm>
            <a:off x="2571840" y="3143160"/>
            <a:ext cx="19526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обавление страниц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Для добавления новой страницы, нажмите [Новая страница]       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Можно создать страницу с шаблоном, нажав [Шаблон...]      . При нажатии появляется следующий диалог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24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берите шаблон и вставьте его в докумен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2E8E-8351-4C86-AA94-4E3DA2427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58" descr="C:\Program Files\Hitachi Software Engineering\StarBoard Software\content\help\image\dialog\Template.gif"/>
          <p:cNvPicPr/>
          <p:nvPr/>
        </p:nvPicPr>
        <p:blipFill>
          <a:blip r:embed="rId1"/>
          <a:stretch/>
        </p:blipFill>
        <p:spPr>
          <a:xfrm>
            <a:off x="4429080" y="4143240"/>
            <a:ext cx="2857680" cy="140040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56" descr="C:\Program Files\Hitachi Software Engineering\StarBoard Software\content\help\image\icon\BlankSheet.gif"/>
          <p:cNvPicPr/>
          <p:nvPr/>
        </p:nvPicPr>
        <p:blipFill>
          <a:blip r:embed="rId2"/>
          <a:stretch/>
        </p:blipFill>
        <p:spPr>
          <a:xfrm>
            <a:off x="3929040" y="2571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57" descr="C:\Program Files\Hitachi Software Engineering\StarBoard Software\content\help\image\icon\Template.gif"/>
          <p:cNvPicPr/>
          <p:nvPr/>
        </p:nvPicPr>
        <p:blipFill>
          <a:blip r:embed="rId3"/>
          <a:stretch/>
        </p:blipFill>
        <p:spPr>
          <a:xfrm>
            <a:off x="2857680" y="350028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еключение между страницам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документах с несколькими страницами можно переключаться между страницами вперед или наза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переместиться на страницу назад, нажмите [Назад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189E-2F3E-4652-A939-B9DA8E5FD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60" descr="C:\Program Files\Hitachi Software Engineering\StarBoard Software\content\help\image\icon\PrevPage.gif"/>
          <p:cNvPicPr/>
          <p:nvPr/>
        </p:nvPicPr>
        <p:blipFill>
          <a:blip r:embed="rId1"/>
          <a:stretch/>
        </p:blipFill>
        <p:spPr>
          <a:xfrm>
            <a:off x="4000680" y="4143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еключение между страницам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переместиться на страницу вперед, нажмите [Вперед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кже можно выбирать страницы непосредственно через [Список     Страниц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D249-7CAE-4D4A-B4E4-AA3AEDDB37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61" descr="C:\Program Files\Hitachi Software Engineering\StarBoard Software\content\help\image\icon\NextPage.gif"/>
          <p:cNvPicPr/>
          <p:nvPr/>
        </p:nvPicPr>
        <p:blipFill>
          <a:blip r:embed="rId1"/>
          <a:stretch/>
        </p:blipFill>
        <p:spPr>
          <a:xfrm>
            <a:off x="4286160" y="2571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62" descr="C:\Program Files\Hitachi Software Engineering\StarBoard Software\content\help\image\icon\ShowPageList.gif"/>
          <p:cNvPicPr/>
          <p:nvPr/>
        </p:nvPicPr>
        <p:blipFill>
          <a:blip r:embed="rId2"/>
          <a:stretch/>
        </p:blipFill>
        <p:spPr>
          <a:xfrm>
            <a:off x="2571840" y="4143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a4076"/>
                </a:solidFill>
                <a:latin typeface="Tahoma"/>
              </a:rPr>
              <a:t>Возможности </a:t>
            </a:r>
            <a:br>
              <a:rPr sz="4400"/>
            </a:br>
            <a:r>
              <a:rPr b="1" lang="ru-RU" sz="4400" spc="-1" strike="noStrike">
                <a:solidFill>
                  <a:srgbClr val="6a4076"/>
                </a:solidFill>
                <a:latin typeface="Tahoma"/>
              </a:rPr>
              <a:t>ИД </a:t>
            </a: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StarBoard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7120" y="2017800"/>
            <a:ext cx="55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несение заметок и добавление информации поверх графических изображений, видео и слай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890D-42ED-43C5-9A22-A65FE28E42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2" descr=""/>
          <p:cNvPicPr/>
          <p:nvPr/>
        </p:nvPicPr>
        <p:blipFill>
          <a:blip r:embed="rId1"/>
          <a:stretch/>
        </p:blipFill>
        <p:spPr>
          <a:xfrm>
            <a:off x="5286240" y="3252960"/>
            <a:ext cx="358164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хранение / Печать данных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вые данные можно сохранить при выходе из прогр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сохранить текущее состояние, нажмите кнопку [Сохранить]      на [Панели инструментов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9422-91DC-4ACA-943B-FFB4F87A5B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64" descr="C:\Program Files\Hitachi Software Engineering\StarBoard Software\content\help\image\icon\Save.gif"/>
          <p:cNvPicPr/>
          <p:nvPr/>
        </p:nvPicPr>
        <p:blipFill>
          <a:blip r:embed="rId1"/>
          <a:stretch/>
        </p:blipFill>
        <p:spPr>
          <a:xfrm>
            <a:off x="6286680" y="364320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хранение / Печать данных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4200" y="201780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оме того, данные можно сохранить в любой момент в диалоге [Список Страниц]     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374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2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сохранить данные, нажмите кнопку [Сохранить]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распечатать страницу, нажмите [Печать]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6A6F-2135-4A09-9589-1809031F4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65" descr="C:\Program Files\Hitachi Software Engineering\StarBoard Software\content\help\image\icon\ShowPageList.gif"/>
          <p:cNvPicPr/>
          <p:nvPr/>
        </p:nvPicPr>
        <p:blipFill>
          <a:blip r:embed="rId1"/>
          <a:stretch/>
        </p:blipFill>
        <p:spPr>
          <a:xfrm>
            <a:off x="6643800" y="25002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66" descr="C:\Program Files\Hitachi Software Engineering\StarBoard Software\content\help\image\dialog\PageList.gif"/>
          <p:cNvPicPr/>
          <p:nvPr/>
        </p:nvPicPr>
        <p:blipFill>
          <a:blip r:embed="rId2"/>
          <a:stretch/>
        </p:blipFill>
        <p:spPr>
          <a:xfrm>
            <a:off x="2500200" y="30718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Завершение работы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14200" y="201780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завершения работы нажмите [Выход]     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этом отобразится следующий диало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сохранить данные, нажмите [Сохранить]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 выхода отображается Экран приветств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760-B879-4629-B33E-57708E887A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68" descr="C:\Program Files\Hitachi Software Engineering\StarBoard Software\content\help\image\icon\Exit.gif"/>
          <p:cNvPicPr/>
          <p:nvPr/>
        </p:nvPicPr>
        <p:blipFill>
          <a:blip r:embed="rId1"/>
          <a:stretch/>
        </p:blipFill>
        <p:spPr>
          <a:xfrm>
            <a:off x="7715160" y="207180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9" descr="C:\Program Files\Hitachi Software Engineering\StarBoard Software\content\help\image\dialog\Save.gif"/>
          <p:cNvPicPr/>
          <p:nvPr/>
        </p:nvPicPr>
        <p:blipFill>
          <a:blip r:embed="rId2"/>
          <a:stretch/>
        </p:blipFill>
        <p:spPr>
          <a:xfrm>
            <a:off x="2786040" y="3143160"/>
            <a:ext cx="3008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285480" y="2428920"/>
            <a:ext cx="866916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>
                <a:solidFill>
                  <a:srgbClr val="ff0000"/>
                </a:solidFill>
                <a:latin typeface="Tahoma"/>
              </a:rPr>
              <a:t>Инструменты</a:t>
            </a:r>
            <a:endParaRPr b="0" lang="en-US" sz="7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4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E9F-6E66-4B93-875C-5C1738D58D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о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Инструменты]          [Перо]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воляет рисовать любые линии на экран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т распознавания фигу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изменить цвет или толщину линий, выберите нужный цвет и/или толщину из панели Палитра или диалога Толщина лин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026-225F-4332-B38F-B640FFF76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89" descr="C:\Program Files\Hitachi Software Engineering\StarBoard Software\content\help\image\Icon\l_HandPen.gif"/>
          <p:cNvPicPr/>
          <p:nvPr/>
        </p:nvPicPr>
        <p:blipFill>
          <a:blip r:embed="rId1"/>
          <a:stretch/>
        </p:blipFill>
        <p:spPr>
          <a:xfrm>
            <a:off x="2857680" y="92880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90" descr="C:\Program Files\Hitachi Software Engineering\StarBoard Software\content\help\image\Icon\Tool.gif"/>
          <p:cNvPicPr/>
          <p:nvPr/>
        </p:nvPicPr>
        <p:blipFill>
          <a:blip r:embed="rId2"/>
          <a:stretch/>
        </p:blipFill>
        <p:spPr>
          <a:xfrm>
            <a:off x="785880" y="21430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91" descr="C:\Program Files\Hitachi Software Engineering\StarBoard Software\content\help\image\arrow_r.gif"/>
          <p:cNvPicPr/>
          <p:nvPr/>
        </p:nvPicPr>
        <p:blipFill>
          <a:blip r:embed="rId3"/>
          <a:stretch/>
        </p:blipFill>
        <p:spPr>
          <a:xfrm>
            <a:off x="4214880" y="21430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92" descr="C:\Program Files\Hitachi Software Engineering\StarBoard Software\content\help\image\Icon\HandPen.gif"/>
          <p:cNvPicPr/>
          <p:nvPr/>
        </p:nvPicPr>
        <p:blipFill>
          <a:blip r:embed="rId4"/>
          <a:stretch/>
        </p:blipFill>
        <p:spPr>
          <a:xfrm>
            <a:off x="4786200" y="21430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Умное перо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Инструменты]            [Умное перо]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Рисует любые линии, позволяет распознавать геометрические фигуры, нарисованные от руки и производить их коррекцию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Распознаются прямоугольники, овалы, треугольники, ромбы, линии и стрелки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Объекты нарисованные не на листе нельзя редактировать!!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91C1-FFEC-448A-949F-6656A73C3C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94" descr="C:\Program Files\Hitachi Software Engineering\StarBoard Software\content\help\image\Icon\l_IntelliPen.gif"/>
          <p:cNvPicPr/>
          <p:nvPr/>
        </p:nvPicPr>
        <p:blipFill>
          <a:blip r:embed="rId1"/>
          <a:stretch/>
        </p:blipFill>
        <p:spPr>
          <a:xfrm>
            <a:off x="4786200" y="100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95" descr="C:\Program Files\Hitachi Software Engineering\StarBoard Software\content\help\image\Icon\Tool.gif"/>
          <p:cNvPicPr/>
          <p:nvPr/>
        </p:nvPicPr>
        <p:blipFill>
          <a:blip r:embed="rId2"/>
          <a:stretch/>
        </p:blipFill>
        <p:spPr>
          <a:xfrm>
            <a:off x="642960" y="21430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96" descr="C:\Program Files\Hitachi Software Engineering\StarBoard Software\content\help\image\arrow_r.gif"/>
          <p:cNvPicPr/>
          <p:nvPr/>
        </p:nvPicPr>
        <p:blipFill>
          <a:blip r:embed="rId3"/>
          <a:stretch/>
        </p:blipFill>
        <p:spPr>
          <a:xfrm>
            <a:off x="3929040" y="2143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97" descr="C:\Program Files\Hitachi Software Engineering\StarBoard Software\content\help\image\Icon\IntelliPen.gif"/>
          <p:cNvPicPr/>
          <p:nvPr/>
        </p:nvPicPr>
        <p:blipFill>
          <a:blip r:embed="rId4"/>
          <a:stretch/>
        </p:blipFill>
        <p:spPr>
          <a:xfrm>
            <a:off x="4572000" y="214308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85480" y="2285640"/>
            <a:ext cx="866916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>
                <a:solidFill>
                  <a:srgbClr val="ff0000"/>
                </a:solidFill>
                <a:latin typeface="Tahoma"/>
              </a:rPr>
              <a:t>Распознавание фигур</a:t>
            </a:r>
            <a:endParaRPr b="0" lang="en-US" sz="7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F9F-7EA1-48D0-B82B-1E109DF323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рямоугольни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ямоугольник, нарисованный подобно тому, что изображен слева, будет автоматически скорректирован в прямоугольник, подобный изображенному спра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0DD-D122-4C35-84BE-3C31D0876A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98" descr="C:\Program Files\Hitachi Software Engineering\StarBoard Software\content\help\image\IntelliPen_Rectangle.gif"/>
          <p:cNvPicPr/>
          <p:nvPr/>
        </p:nvPicPr>
        <p:blipFill>
          <a:blip r:embed="rId1"/>
          <a:stretch/>
        </p:blipFill>
        <p:spPr>
          <a:xfrm>
            <a:off x="1714680" y="4572000"/>
            <a:ext cx="6651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Треугольник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4200" y="201780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Треугольник, нарисованный подобно тому, что изображен слева, будет автоматически скорректирован в треугольник, подобный изображенному справа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Также возможно рисовать специфические типы треугольников, такие как равносторонние и прямоугольные треугольники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2780-A4FF-4625-8B72-05349EE2E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99" descr="C:\Program Files\Hitachi Software Engineering\StarBoard Software\content\help\image\IntelliPen_Triangle.gif"/>
          <p:cNvPicPr/>
          <p:nvPr/>
        </p:nvPicPr>
        <p:blipFill>
          <a:blip r:embed="rId1"/>
          <a:stretch/>
        </p:blipFill>
        <p:spPr>
          <a:xfrm>
            <a:off x="3286080" y="5429160"/>
            <a:ext cx="4433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Ова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вал, нарисованный подобно тому, что изображен слева, будет автоматически скорректирован в овал, подобный изображенному спра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3A2-AC2E-4BC8-B8D9-B05E5ABF22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100" descr="C:\Program Files\Hitachi Software Engineering\StarBoard Software\content\help\image\IntelliPen_Ellipse.gif"/>
          <p:cNvPicPr/>
          <p:nvPr/>
        </p:nvPicPr>
        <p:blipFill>
          <a:blip r:embed="rId1"/>
          <a:stretch/>
        </p:blipFill>
        <p:spPr>
          <a:xfrm>
            <a:off x="1500120" y="4214880"/>
            <a:ext cx="6796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a4076"/>
                </a:solidFill>
                <a:latin typeface="Tahoma"/>
              </a:rPr>
              <a:t>Возможности </a:t>
            </a:r>
            <a:br>
              <a:rPr sz="4400"/>
            </a:br>
            <a:r>
              <a:rPr b="1" lang="ru-RU" sz="4400" spc="-1" strike="noStrike">
                <a:solidFill>
                  <a:srgbClr val="6a4076"/>
                </a:solidFill>
                <a:latin typeface="Tahoma"/>
              </a:rPr>
              <a:t>ИД </a:t>
            </a: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StarBoard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85480" y="2017800"/>
            <a:ext cx="47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ование одного общего экрана при использовании сети удаленными друг от друга пользователя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1002-5E3D-4C1E-ACA4-35DAF7A647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3" descr=""/>
          <p:cNvPicPr/>
          <p:nvPr/>
        </p:nvPicPr>
        <p:blipFill>
          <a:blip r:embed="rId1"/>
          <a:stretch/>
        </p:blipFill>
        <p:spPr>
          <a:xfrm>
            <a:off x="5156280" y="2000160"/>
            <a:ext cx="37447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омб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мб, нарисованный подобно тому, что изображен слева, будет автоматически скорректирован в ромб, подобный изображенному спра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F9C6-4BD7-419A-B6A1-AB48475C1F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101" descr="C:\Program Files\Hitachi Software Engineering\StarBoard Software\content\help\image\IntelliPen_Diamond.gif"/>
          <p:cNvPicPr/>
          <p:nvPr/>
        </p:nvPicPr>
        <p:blipFill>
          <a:blip r:embed="rId1"/>
          <a:stretch/>
        </p:blipFill>
        <p:spPr>
          <a:xfrm>
            <a:off x="1143000" y="4071960"/>
            <a:ext cx="7389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Линия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ямая линия, нарисованная подобно той, что изображена слева, будет автоматически скорректирована в прямую линию, подобную изображенной справа. Также можно рисовать различные углы, сформированные прямыми линия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E4A2-0133-4243-88E9-A99B0F2D14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Рисунок 102" descr="C:\Program Files\Hitachi Software Engineering\StarBoard Software\content\help\image\IntelliPen_Line.gif"/>
          <p:cNvPicPr/>
          <p:nvPr/>
        </p:nvPicPr>
        <p:blipFill>
          <a:blip r:embed="rId1"/>
          <a:stretch/>
        </p:blipFill>
        <p:spPr>
          <a:xfrm>
            <a:off x="1500120" y="5072040"/>
            <a:ext cx="58676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трелка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14200" y="201780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елка, нарисованная подобно той, что изображена слева, будет автоматически скорректирована в стрелку, подобную изображенной спра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87A3-9663-49F5-9309-C39A68D2E1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103" descr="C:\Program Files\Hitachi Software Engineering\StarBoard Software\content\help\image\IntelliPen_Arrow.gif"/>
          <p:cNvPicPr/>
          <p:nvPr/>
        </p:nvPicPr>
        <p:blipFill>
          <a:blip r:embed="rId1"/>
          <a:stretch/>
        </p:blipFill>
        <p:spPr>
          <a:xfrm>
            <a:off x="2714760" y="4071960"/>
            <a:ext cx="41432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28760" y="2285640"/>
            <a:ext cx="852624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>
                <a:solidFill>
                  <a:srgbClr val="ff0000"/>
                </a:solidFill>
                <a:latin typeface="Tahoma"/>
              </a:rPr>
              <a:t>Создание объектов</a:t>
            </a:r>
            <a:endParaRPr b="0" lang="en-US" sz="7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DAE7-A8A0-41DA-9B4B-0FA5319FE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рокрутка экран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легком нажатии Умным пером на экран и удерживании пера нажатым, изображение курсора изменяется на изображение ру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перь, не отпуская пера, можно прокручивать изображение на экран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E3AC-23D9-47FC-949E-8CEA3E0398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a4076"/>
                </a:solidFill>
                <a:latin typeface="Tahoma"/>
              </a:rPr>
              <a:t>Выбор, перемещение, изменение размера и вращение объектов</a:t>
            </a:r>
            <a:endParaRPr b="0" lang="en-US" sz="35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егкое нажатие на объект позволяет выбрать этот объек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бранный объект можно перемещать, изменять его размеры, растягивая его за границу выдел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деленный объект также можно вращать, захватив его за верхний кружок границы выдел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AB0-3AD6-4D11-95A4-E81E626A53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4076"/>
                </a:solidFill>
                <a:latin typeface="Tahoma"/>
              </a:rPr>
              <a:t>Задание областей / Выбор нескольких объектов</a:t>
            </a:r>
            <a:endParaRPr b="0" lang="en-US" sz="40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ажды нажмите Умным пером на экране и укажите область выдел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удут выбраны все объекты внутри указанной обла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1798-2F9F-4E98-AC7D-EFF7D4573C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Удаление объек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удалить объект, нарисуйте X над ни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468-50E0-460D-B5DB-19334FBBC3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104" descr="C:\Program Files\Hitachi Software Engineering\StarBoard Software\content\help\image\IntelliPen_Delete.gif"/>
          <p:cNvPicPr/>
          <p:nvPr/>
        </p:nvPicPr>
        <p:blipFill>
          <a:blip r:embed="rId1"/>
          <a:stretch/>
        </p:blipFill>
        <p:spPr>
          <a:xfrm>
            <a:off x="1357200" y="3081240"/>
            <a:ext cx="6286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ставка пустого пространств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5840" y="1857240"/>
            <a:ext cx="85010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Чтобы раздвинуть объекты, нарисуйте &gt; или &lt; между ними, как показано на рисунке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Объем пустого                                          пространства зависит от                                      размера нарисованных                                          знаков &gt; или &lt;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Нарисуйте большой угол                                            для вставки большого количества свободного пространства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0ED4-4D00-47B0-A41D-7730976FB3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Рисунок 105" descr="C:\Program Files\Hitachi Software Engineering\StarBoard Software\content\help\image\IntelliPen_Space.gif"/>
          <p:cNvPicPr/>
          <p:nvPr/>
        </p:nvPicPr>
        <p:blipFill>
          <a:blip r:embed="rId1"/>
          <a:stretch/>
        </p:blipFill>
        <p:spPr>
          <a:xfrm>
            <a:off x="5357880" y="3143160"/>
            <a:ext cx="35719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28760" y="2428920"/>
            <a:ext cx="852624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>
                <a:solidFill>
                  <a:srgbClr val="ff0000"/>
                </a:solidFill>
                <a:latin typeface="Tahoma"/>
              </a:rPr>
              <a:t>Инструменты</a:t>
            </a:r>
            <a:endParaRPr b="0" lang="en-US" sz="7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4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5710-7CA2-48B6-9C15-56178A32B5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Калибровка электронного пер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 несовпадении положений электронного пера и курсора на экране нужно провести [Калибровку пера]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ыберите пункт [Настройки] в меню Экрана приветствия, чтобы отобразить диалог [Настройки], затем выберите [Калибровка]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о время записи данных на экране нажмите [StarBoard] на [Панели инструментов], затем нажмите [Настройки] &gt; [StarBoard] &gt; [Калибровка]. При этом отобразится диалог [Калибровки]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2A6-5F08-4FE5-BEAD-FEF36EC9FA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исование / Стирание Фигур и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13840" y="201780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нарисовать геометрическую фигуру, выберите одну фигуру                            из меню Фигур      . Фигура будет нарисована в области, заданной при помощи п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написать текст, выберите [Текст]    . Набранный на клавиатуре текст появится в заданной обла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79A5-ECBF-483B-87CE-537E00CFD2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1" descr="C:\Program Files\Hitachi Software Engineering\StarBoard Software\content\help\image\icon\ObjectRect.gif"/>
          <p:cNvPicPr/>
          <p:nvPr/>
        </p:nvPicPr>
        <p:blipFill>
          <a:blip r:embed="rId1"/>
          <a:stretch/>
        </p:blipFill>
        <p:spPr>
          <a:xfrm>
            <a:off x="5000760" y="2571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2" descr="C:\Program Files\Hitachi Software Engineering\StarBoard Software\content\help\image\icon\ObjectEllipse.gif"/>
          <p:cNvPicPr/>
          <p:nvPr/>
        </p:nvPicPr>
        <p:blipFill>
          <a:blip r:embed="rId2"/>
          <a:stretch/>
        </p:blipFill>
        <p:spPr>
          <a:xfrm>
            <a:off x="5572080" y="2571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" descr="C:\Program Files\Hitachi Software Engineering\StarBoard Software\content\help\image\icon\ObjectDiamond.gif"/>
          <p:cNvPicPr/>
          <p:nvPr/>
        </p:nvPicPr>
        <p:blipFill>
          <a:blip r:embed="rId3"/>
          <a:stretch/>
        </p:blipFill>
        <p:spPr>
          <a:xfrm>
            <a:off x="6143760" y="2571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C:\Program Files\Hitachi Software Engineering\StarBoard Software\content\help\image\icon\ObjectTriangle.gif"/>
          <p:cNvPicPr/>
          <p:nvPr/>
        </p:nvPicPr>
        <p:blipFill>
          <a:blip r:embed="rId4"/>
          <a:stretch/>
        </p:blipFill>
        <p:spPr>
          <a:xfrm>
            <a:off x="6715080" y="2571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5" descr="C:\Program Files\Hitachi Software Engineering\StarBoard Software\content\help\image\icon\ObjectLine.gif"/>
          <p:cNvPicPr/>
          <p:nvPr/>
        </p:nvPicPr>
        <p:blipFill>
          <a:blip r:embed="rId5"/>
          <a:stretch/>
        </p:blipFill>
        <p:spPr>
          <a:xfrm>
            <a:off x="7286760" y="2571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6" descr="C:\Program Files\Hitachi Software Engineering\StarBoard Software\content\help\image\icon\ObjectArrow.gif"/>
          <p:cNvPicPr/>
          <p:nvPr/>
        </p:nvPicPr>
        <p:blipFill>
          <a:blip r:embed="rId6"/>
          <a:stretch/>
        </p:blipFill>
        <p:spPr>
          <a:xfrm>
            <a:off x="7858080" y="2571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7" descr="C:\Program Files\Hitachi Software Engineering\StarBoard Software\content\help\image\icon\Object.gif"/>
          <p:cNvPicPr/>
          <p:nvPr/>
        </p:nvPicPr>
        <p:blipFill>
          <a:blip r:embed="rId7"/>
          <a:stretch/>
        </p:blipFill>
        <p:spPr>
          <a:xfrm>
            <a:off x="3071880" y="30718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8" descr="C:\Program Files\Hitachi Software Engineering\StarBoard Software\content\help\image\icon\ObjectText.gif"/>
          <p:cNvPicPr/>
          <p:nvPr/>
        </p:nvPicPr>
        <p:blipFill>
          <a:blip r:embed="rId8"/>
          <a:stretch/>
        </p:blipFill>
        <p:spPr>
          <a:xfrm>
            <a:off x="8286840" y="4143240"/>
            <a:ext cx="4284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исование / Стирание Фигур и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14200" y="201780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жно создать новый текстовый объект, просто начав набирать текст на клавиатур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гуры и текст нельзя удалить при помощи [Ластика]. Чтобы их удалить, нажмите на кнопку [Выбрать]      , укажите ненужную фигуру или текст и нажмите кнопку [Удалить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0322-AE34-4206-8279-FF2B1584C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9" descr="C:\Program Files\Hitachi Software Engineering\StarBoard Software\content\help\image\icon\Select.gif"/>
          <p:cNvPicPr/>
          <p:nvPr/>
        </p:nvPicPr>
        <p:blipFill>
          <a:blip r:embed="rId1"/>
          <a:stretch/>
        </p:blipFill>
        <p:spPr>
          <a:xfrm>
            <a:off x="6357960" y="4643280"/>
            <a:ext cx="500040" cy="50040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10" descr="C:\Program Files\Hitachi Software Engineering\StarBoard Software\content\help\image\icon\Delete.gif"/>
          <p:cNvPicPr/>
          <p:nvPr/>
        </p:nvPicPr>
        <p:blipFill>
          <a:blip r:embed="rId2"/>
          <a:stretch/>
        </p:blipFill>
        <p:spPr>
          <a:xfrm>
            <a:off x="4000680" y="564372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здание объек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объектам относятся графические изображения, текст и все, нарисованное при помощи пер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 это можно перемещать, трансформировать и враща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6B5-6BBC-437C-8204-F39B678991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здание объек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ыбрать объект, нажмите [Выбрать]      и нажмите на нужный объек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бранный объект можно перемещать. Для этого нажмите на объекте и перетащите его на новое мест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8720-3163-4CE3-9183-6744D79541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Рисунок 12" descr="C:\Program Files\Hitachi Software Engineering\StarBoard Software\content\help\image\icon\Select.gif"/>
          <p:cNvPicPr/>
          <p:nvPr/>
        </p:nvPicPr>
        <p:blipFill>
          <a:blip r:embed="rId1"/>
          <a:stretch/>
        </p:blipFill>
        <p:spPr>
          <a:xfrm>
            <a:off x="2714760" y="264312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здание объек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85480" y="2017800"/>
            <a:ext cx="60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трансформировать выбранный объект, растягивайте его за границу выдел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91BF-8E4F-4556-9486-8EEE539DEC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Рисунок 13" descr="C:\Program Files\Hitachi Software Engineering\StarBoard Software\content\help\image\ObjectTransform.gif"/>
          <p:cNvPicPr/>
          <p:nvPr/>
        </p:nvPicPr>
        <p:blipFill>
          <a:blip r:embed="rId1"/>
          <a:stretch/>
        </p:blipFill>
        <p:spPr>
          <a:xfrm>
            <a:off x="6357960" y="1839960"/>
            <a:ext cx="24764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здание объек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85480" y="2017800"/>
            <a:ext cx="61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повернуть выбранный объект, нажмите на верхнем кружке границы выделения и, не отпуская, вращайте выбранный объек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05DD-5E51-49B6-B2C5-177C76AE04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14" descr="C:\Program Files\Hitachi Software Engineering\StarBoard Software\content\help\image\ObjectRotate.gif"/>
          <p:cNvPicPr/>
          <p:nvPr/>
        </p:nvPicPr>
        <p:blipFill>
          <a:blip r:embed="rId1"/>
          <a:stretch/>
        </p:blipFill>
        <p:spPr>
          <a:xfrm>
            <a:off x="5786280" y="3718080"/>
            <a:ext cx="26910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здание объек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ыбрать несколько объектов, нажмите [Выбрать]      и укажите область, в которой находятся нужные объекты. Выполняемые операции применяются ко всем выбранным объекта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сколько объектов можно также выбрать, используя [Выбрать     несколько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CF78-D3C1-4627-943A-6275731314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5" descr="C:\Program Files\Hitachi Software Engineering\StarBoard Software\content\help\image\icon\Select.gif"/>
          <p:cNvPicPr/>
          <p:nvPr/>
        </p:nvPicPr>
        <p:blipFill>
          <a:blip r:embed="rId1"/>
          <a:stretch/>
        </p:blipFill>
        <p:spPr>
          <a:xfrm>
            <a:off x="4500720" y="25718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6" descr="C:\Program Files\Hitachi Software Engineering\StarBoard Software\content\help\image\icon\SelectAdd.gif"/>
          <p:cNvPicPr/>
          <p:nvPr/>
        </p:nvPicPr>
        <p:blipFill>
          <a:blip r:embed="rId2"/>
          <a:stretch/>
        </p:blipFill>
        <p:spPr>
          <a:xfrm>
            <a:off x="2857680" y="557208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здание объек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объединить несколько выбранных объектов в один, нажмите [Группировать]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ернуть сгруппированные объекты к предыдущему состоянию, нажмите [Разгруппировать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882-E6CE-4EBF-AADC-592D7FDFA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17" descr="C:\Program Files\Hitachi Software Engineering\StarBoard Software\content\help\image\icon\Group.gif"/>
          <p:cNvPicPr/>
          <p:nvPr/>
        </p:nvPicPr>
        <p:blipFill>
          <a:blip r:embed="rId1"/>
          <a:stretch/>
        </p:blipFill>
        <p:spPr>
          <a:xfrm>
            <a:off x="571680" y="30718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8" descr="C:\Program Files\Hitachi Software Engineering\StarBoard Software\content\help\image\icon\Ungroup.gif"/>
          <p:cNvPicPr/>
          <p:nvPr/>
        </p:nvPicPr>
        <p:blipFill>
          <a:blip r:embed="rId2"/>
          <a:stretch/>
        </p:blipFill>
        <p:spPr>
          <a:xfrm>
            <a:off x="4286160" y="471492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Копирование и вставк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копировать выделенный объект, нажмите [Копировать] 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ставить копированный объект на страницу, нажмите [Вставить] 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кже можно вставлять текст и изображения из буфера обмен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33F3-0CC7-435F-8B31-A432CB7D10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20" descr="C:\Program Files\Hitachi Software Engineering\StarBoard Software\content\help\image\icon\Copy.gif"/>
          <p:cNvPicPr/>
          <p:nvPr/>
        </p:nvPicPr>
        <p:blipFill>
          <a:blip r:embed="rId1"/>
          <a:stretch/>
        </p:blipFill>
        <p:spPr>
          <a:xfrm>
            <a:off x="5143680" y="25718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21" descr="C:\Program Files\Hitachi Software Engineering\StarBoard Software\content\help\image\icon\Paste.gif"/>
          <p:cNvPicPr/>
          <p:nvPr/>
        </p:nvPicPr>
        <p:blipFill>
          <a:blip r:embed="rId2"/>
          <a:stretch/>
        </p:blipFill>
        <p:spPr>
          <a:xfrm>
            <a:off x="6572160" y="36432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Копирование и вставк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ырезать выделенный объект, нажмите [Вырезать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берите команду [Клон]      , чтобы создать копию выбранного объек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удалить выделенный объект, нажмите [Удалить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471C-8FA4-43DB-9E96-8D3F68F478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22" descr="C:\Program Files\Hitachi Software Engineering\StarBoard Software\content\help\image\icon\Cut.gif"/>
          <p:cNvPicPr/>
          <p:nvPr/>
        </p:nvPicPr>
        <p:blipFill>
          <a:blip r:embed="rId1"/>
          <a:stretch/>
        </p:blipFill>
        <p:spPr>
          <a:xfrm>
            <a:off x="4786200" y="2571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3" descr="C:\Program Files\Hitachi Software Engineering\StarBoard Software\content\help\image\icon\CopyAndPaste.gif"/>
          <p:cNvPicPr/>
          <p:nvPr/>
        </p:nvPicPr>
        <p:blipFill>
          <a:blip r:embed="rId2"/>
          <a:stretch/>
        </p:blipFill>
        <p:spPr>
          <a:xfrm>
            <a:off x="5857920" y="3143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24" descr="C:\Program Files\Hitachi Software Engineering\StarBoard Software\content\help\image\icon\Delete.gif"/>
          <p:cNvPicPr/>
          <p:nvPr/>
        </p:nvPicPr>
        <p:blipFill>
          <a:blip r:embed="rId3"/>
          <a:stretch/>
        </p:blipFill>
        <p:spPr>
          <a:xfrm>
            <a:off x="4500720" y="471492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Калибровка электронного пер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4200" y="201780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мите [OK] в диалоге [Калибровки]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независимом подключении к нескольким устройствам StarBoard укажите имя устройст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E8D8-2A7B-4BB5-A088-76B4ABA628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сплывающее мен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выборе объекта рядом с ним появляется всплывающее меню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помощи этого меню можно проводить различные операции с объект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596B-06BD-4BAE-B256-A3172F98E8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сплывающее мен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гда Вы выберете рукописный текст, сверху меню появятся строки с вариантами преобразования текс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создать гиперссылку, связывающую объект с файлом или web-страницей, выберите [Редактирование гиперссылки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отредактировать текст текстового объекта, выберите [Редактировать текст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81FF-483A-4D79-86E6-FD12FD8F4F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сплывающее мен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копировать объект, выберите [Копировать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вырезать объект, выберите [Вырезать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анда [Клон] создает копию выбранного объек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114F-7A7F-4123-9001-5F1ED2704B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сплывающее мен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удалить объект, выберите [Удалить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всплывающего меню можно группировать и разгруппировать объек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сохранить объект как графический фрагмент Clip Art, выберите [Зарегистрировать как картинку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3446-E5F5-47FF-9B38-3668E3190B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сплывающее меню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помощью команды [Выровнять] объект можно повернуть или отрази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анда [Упорядочить] позволяет менять порядок наложения объектов друг на друг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тобы изменить свойства объекта, выберите [Свойства объекта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7802-F1D5-49E0-93F0-0FB89B3F4B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обавление докумен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14200" y="201780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Чтобы создать страницу, используя графическое изображение или слайды, нажмите "Избранное"      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При нажатии отобразится следующий диалог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125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Выберите тип документ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4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При сомнениях редактировать документ или нет, выберите [Просмотр]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4FF-A67B-4FC6-A2B5-91C70A0CBD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7" descr="C:\Program Files\Hitachi Software Engineering\StarBoard Software\content\help\image\icon\OpenMaterial.gif"/>
          <p:cNvPicPr/>
          <p:nvPr/>
        </p:nvPicPr>
        <p:blipFill>
          <a:blip r:embed="rId1"/>
          <a:stretch/>
        </p:blipFill>
        <p:spPr>
          <a:xfrm>
            <a:off x="8072280" y="2428920"/>
            <a:ext cx="500400" cy="50004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8" descr="C:\Program Files\Hitachi Software Engineering\StarBoard Software\content\help\image\dialog\SelectOpenMaterial.gif"/>
          <p:cNvPicPr/>
          <p:nvPr/>
        </p:nvPicPr>
        <p:blipFill>
          <a:blip r:embed="rId2"/>
          <a:stretch/>
        </p:blipFill>
        <p:spPr>
          <a:xfrm>
            <a:off x="1143000" y="3352680"/>
            <a:ext cx="45626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росмотр докумен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и открытии документов в режиме просмотра StarBoard Software загружает файл Word или Excel в виде шаблона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обавленные данные будут сохранены в виде мемо-данных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айл, доступный для просмотра – это такой файл, который может быть распечатан с помощью пиктограммы на рабочем столе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97DF-1113-4458-88C0-2856B58509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росмотр докумен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же приведены приложения, файлы которых доступны для просмотра, а также размер печатаемой страниц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мер B4 соответствует 250x354 мм или 257x364 мм в StarBoard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295D-3BF8-4087-895F-B4A326A843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785880" y="3643200"/>
          <a:ext cx="7500960" cy="1521000"/>
        </p:xfrm>
        <a:graphic>
          <a:graphicData uri="http://schemas.openxmlformats.org/drawingml/2006/table">
            <a:tbl>
              <a:tblPr/>
              <a:tblGrid>
                <a:gridCol w="2271600"/>
                <a:gridCol w="5229360"/>
              </a:tblGrid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5,B4,A5,Letter,A4,A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5,B4,A5,Letter,A4,A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07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5,B4,A5,Letter,A4,A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едактирование докумен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открытии документов в режиме редактирования файлы Word, Excel, и PowerPoint(R) будут открыты при помощи Office (R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того, чтобы открыть документ в режиме редактирования, Вам необходимо выбрать [Установки] - [Писать непосредственно на рабочем столе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9F0-7B5E-470D-9785-5FBB9EE55C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едактирование докумен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14200" y="201780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Вы хотите перенести аннотацию в приложение MS-Office, выберите [Экспортировать в MS-Office ]     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редактировании файла PowerPoint(R) не используйте другие режимы, кроме [Обычный] или [Показ Слайдов]. Комментарии могут быть добавлены некоррект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24BF-D6E3-4516-B27D-7BE1CDEDC5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97" descr="C:\Program Files\Hitachi Software Engineering\StarBoard Software\content\help\image\icon\PasteToOffice.gif"/>
          <p:cNvPicPr/>
          <p:nvPr/>
        </p:nvPicPr>
        <p:blipFill>
          <a:blip r:embed="rId1"/>
          <a:stretch/>
        </p:blipFill>
        <p:spPr>
          <a:xfrm>
            <a:off x="6357960" y="307188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Калибровка электронного пер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жмите электронным пером на символе в правом верхнем углу, перпендикулярно к экран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асный мигающий символ превратится в зелены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вторите эти действия для каждого символа, обходя их против часовой стрел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C9F7-533C-475A-A056-3553872F51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едактирование документ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 открывайте несколько файлов в режиме Редактирования. В противном случае, комментарии могут не сохранитьс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ментарии, написанные за пределами документа, не сохраняютс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сохранить комментарии в документ Office, необходимо открыть его в режиме редактирования. Не открывайте его из приложения Offi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9CBF-B09D-44C1-9252-CCF562125A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56760" y="2714760"/>
            <a:ext cx="85978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500" spc="-1" strike="noStrike">
                <a:solidFill>
                  <a:srgbClr val="ff0000"/>
                </a:solidFill>
                <a:latin typeface="Tahoma"/>
              </a:rPr>
              <a:t>Типы файлов</a:t>
            </a:r>
            <a:endParaRPr b="0" lang="en-US" sz="7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4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1B40-7A81-4666-9A37-0DFD870A3E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Графические файлы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Bitmap файлы (.bmp, .dib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*Исключая 32-битовый цветной точечный файл рису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ping файлы (.pn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jpeg файлы (.jpg, .jpe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ие файлы (.wmf, .emf, .tif, .tiff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*Только несжатый формат для tif и tiff файл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B2D-C401-408A-8402-7991789736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идео файлы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бые файлы, которые могут быть открыты проигрывателем Windows Media(TM) Play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которые форматы сжатых видео файлов могут не быть воспроизведен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D56A-3AB4-4708-B2C5-562F98038A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a4076"/>
                </a:solidFill>
                <a:latin typeface="Tahoma"/>
              </a:rPr>
              <a:t>Файлы Microsoft(R) Office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ord документы (.doc, .rtf, .tx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Excel таблицы (.xl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PowerPoint слайды (.pp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37D4-BF2A-4689-81BD-EB309B7791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a4076"/>
                </a:solidFill>
                <a:latin typeface="Tahoma"/>
              </a:rPr>
              <a:t>Portable Document Format(.pdf)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айлы, доступные для просмотра с помощью приложений Adobe Acrobat(R) Reader или Adobe(R) Read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A25B-3810-4C3C-8AAB-748EDA5F7E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ругие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жатый фай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*Только файлы, сохраненые [DocumentPackager]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9CD9-378E-4F4A-86D9-E8B0385B79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ложение файл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документ StarBoard можно вложить внешние ресурсы, такие как видеофильмы или аудиофайл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нопка Вложения      в меню Документ выводит на экран следующее диалоговое ок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1ACA-F8EE-4A34-A369-399F1F5281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Рисунок 100" descr="C:\Program Files\Hitachi Software Engineering\StarBoard Software\content\help\image\icon\attachments.gif"/>
          <p:cNvPicPr/>
          <p:nvPr/>
        </p:nvPicPr>
        <p:blipFill>
          <a:blip r:embed="rId1"/>
          <a:stretch/>
        </p:blipFill>
        <p:spPr>
          <a:xfrm>
            <a:off x="4143240" y="36432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101" descr="C:\Program Files\Hitachi Software Engineering\StarBoard Software\content\help\image\icon\datamanager.gif"/>
          <p:cNvPicPr/>
          <p:nvPr/>
        </p:nvPicPr>
        <p:blipFill>
          <a:blip r:embed="rId2"/>
          <a:stretch/>
        </p:blipFill>
        <p:spPr>
          <a:xfrm>
            <a:off x="8143920" y="36432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102" descr="C:\Program Files\Hitachi Software Engineering\StarBoard Software\content\help\image\dialog\attachmentsDlg.gif"/>
          <p:cNvPicPr/>
          <p:nvPr/>
        </p:nvPicPr>
        <p:blipFill>
          <a:blip r:embed="rId3"/>
          <a:stretch/>
        </p:blipFill>
        <p:spPr>
          <a:xfrm>
            <a:off x="2286000" y="4643280"/>
            <a:ext cx="42861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Вложение файл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кры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ложение с помощью StarBoard Softwa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звлеч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ложение из текущего документа StarBoard и сохранить его копию на жестком диск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бав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овое вложение к текущему документу StarBoar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л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ложе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1DC3-E89F-4491-A33A-96604F658C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обавление гиперссылок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ъекты документа StarBoard можно связывать с файлами или web-страницами. Такая связь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иперссыл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бавить к документу объект c гиперссылкой можно либо с помощью перетаскивания мышью, либо путем редактирования свойств существующего объек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E58C-BBB6-46FF-BC44-AFA9D097DF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B8C9-4D33-401C-89FE-598B7BED3E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4" descr=""/>
          <p:cNvPicPr/>
          <p:nvPr/>
        </p:nvPicPr>
        <p:blipFill>
          <a:blip r:embed="rId1"/>
          <a:stretch/>
        </p:blipFill>
        <p:spPr>
          <a:xfrm>
            <a:off x="1357200" y="1928880"/>
            <a:ext cx="671508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етаскивание 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85840" y="2143080"/>
          <a:ext cx="8669160" cy="3451320"/>
        </p:xfrm>
        <a:graphic>
          <a:graphicData uri="http://schemas.openxmlformats.org/drawingml/2006/table">
            <a:tbl>
              <a:tblPr/>
              <a:tblGrid>
                <a:gridCol w="3643200"/>
                <a:gridCol w="5025960"/>
              </a:tblGrid>
              <a:tr h="993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к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 перетаски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</a:tr>
              <a:tr h="2457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L из адресной строки брауз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L web-страницы, добавленный как текстовый объект с гиперссылкой на web-страниц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sp>
        <p:nvSpPr>
          <p:cNvPr id="499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B02D-090D-4372-8DBB-80124EAF4E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етаскив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7120" y="2143080"/>
          <a:ext cx="8597880" cy="4071960"/>
        </p:xfrm>
        <a:graphic>
          <a:graphicData uri="http://schemas.openxmlformats.org/drawingml/2006/table">
            <a:tbl>
              <a:tblPr/>
              <a:tblGrid>
                <a:gridCol w="3433680"/>
                <a:gridCol w="5164200"/>
              </a:tblGrid>
              <a:tr h="4071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перссылка с web-страни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L web-страницы назначения, добавленный как текстовый объект с гиперссылкой на web-страницу назнач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0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15FF-CB48-4117-8633-AA3610490F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етаскив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7120" y="2214720"/>
          <a:ext cx="8597880" cy="2982600"/>
        </p:xfrm>
        <a:graphic>
          <a:graphicData uri="http://schemas.openxmlformats.org/drawingml/2006/table">
            <a:tbl>
              <a:tblPr/>
              <a:tblGrid>
                <a:gridCol w="4299120"/>
                <a:gridCol w="4298760"/>
              </a:tblGrid>
              <a:tr h="29826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 в проводнике Windows, например, аудиофай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ть к файлу, добавленный как текстовый объект с гиперссылкой фай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0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340D-5A5E-4894-AB77-6D3364EA4E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етаскив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57120" y="2017800"/>
          <a:ext cx="8597880" cy="3554280"/>
        </p:xfrm>
        <a:graphic>
          <a:graphicData uri="http://schemas.openxmlformats.org/drawingml/2006/table">
            <a:tbl>
              <a:tblPr/>
              <a:tblGrid>
                <a:gridCol w="4299120"/>
                <a:gridCol w="4298760"/>
              </a:tblGrid>
              <a:tr h="3554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L в виде текстовой строки из документа MS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L, добавленный как текстовый объект с гиперссылкой на URL назнач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0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27B6-2D78-42A9-9DC5-E744A6FF7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обавление гиперссылк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добавления гиперссылки к существующему объекту: выберите объект, нажмите кнопку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и из всплывающего меню выберит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едактирование гиперссыл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Откроется диалоговое окно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Редактирование гиперссыл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746-F775-478F-A7F7-EDF028A27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обавление гиперссылк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бран объект с гиперссылкой, отображается всплывающая подсказка с указанием пути назнач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ойной щелчок на объекте с гиперссылкой активирует гиперссылку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ктивация ссылки на web-страницу откроет web-страницу в web-браузере по умолчанию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937E-E474-4DAE-B45A-2096BB8EA1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Добавление гиперссылк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Щелчок по ссылке на файл откроет этот фай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это возможно, файл откроется с помощью StarBoard Softwar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отивном случае файл будет открыт приложением, связанным в Windows с файлами этого тип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имер, аудиофайлы будут воспроизводиться медиаплеером по умолчани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B6C-C663-4EE4-9E3C-254075D5AA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писок задач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переключения между документами во время работы используйте [Список Задач]     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выборе [Списка Задач] отображается следующий диало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берите документ, на который нужно переключиться. Показывается последняя открытая страница этого докумен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2062-9658-4B59-957A-0E5A1BFD80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Рисунок 31" descr="C:\Program Files\Hitachi Software Engineering\StarBoard Software\content\help\image\dialog\TopicView.gif"/>
          <p:cNvPicPr/>
          <p:nvPr/>
        </p:nvPicPr>
        <p:blipFill>
          <a:blip r:embed="rId1"/>
          <a:stretch/>
        </p:blipFill>
        <p:spPr>
          <a:xfrm>
            <a:off x="4286160" y="3429000"/>
            <a:ext cx="2190960" cy="19717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30" descr="C:\Program Files\Hitachi Software Engineering\StarBoard Software\content\help\image\icon\MaterialList.gif"/>
          <p:cNvPicPr/>
          <p:nvPr/>
        </p:nvPicPr>
        <p:blipFill>
          <a:blip r:embed="rId2"/>
          <a:stretch/>
        </p:blipFill>
        <p:spPr>
          <a:xfrm>
            <a:off x="6715080" y="25002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Переключение режимов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14200" y="2017800"/>
          <a:ext cx="8740800" cy="4206960"/>
        </p:xfrm>
        <a:graphic>
          <a:graphicData uri="http://schemas.openxmlformats.org/drawingml/2006/table">
            <a:tbl>
              <a:tblPr/>
              <a:tblGrid>
                <a:gridCol w="3143520"/>
                <a:gridCol w="559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ран П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ображается экран ПК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од видео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ображает видео от подключенных внешних источников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кументы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зволяет открывать слайды, воспроизводить видео файлы, просматривать или редактировать докумен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ферен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ускает телеконференцию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sp>
        <p:nvSpPr>
          <p:cNvPr id="52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916C-DD4F-414B-9AE2-C5FE9961D3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68" descr="C:\Program Files\Hitachi Software Engineering\StarBoard Software\content\help\image\icon\PCScreen.gif"/>
          <p:cNvPicPr/>
          <p:nvPr/>
        </p:nvPicPr>
        <p:blipFill>
          <a:blip r:embed="rId1"/>
          <a:stretch/>
        </p:blipFill>
        <p:spPr>
          <a:xfrm>
            <a:off x="357120" y="20001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69" descr="C:\Program Files\Hitachi Software Engineering\StarBoard Software\content\help\image\icon\VideoPlayer.gif"/>
          <p:cNvPicPr/>
          <p:nvPr/>
        </p:nvPicPr>
        <p:blipFill>
          <a:blip r:embed="rId2"/>
          <a:stretch/>
        </p:blipFill>
        <p:spPr>
          <a:xfrm>
            <a:off x="357120" y="25718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70" descr="C:\Program Files\Hitachi Software Engineering\StarBoard Software\content\help\image\icon\OpenMaterial.gif"/>
          <p:cNvPicPr/>
          <p:nvPr/>
        </p:nvPicPr>
        <p:blipFill>
          <a:blip r:embed="rId3"/>
          <a:stretch/>
        </p:blipFill>
        <p:spPr>
          <a:xfrm>
            <a:off x="357120" y="39290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529" name="Рисунок 71" descr="C:\Program Files\Hitachi Software Engineering\StarBoard Software\content\help\image\icon\VideoPhone.gif"/>
          <p:cNvPicPr/>
          <p:nvPr/>
        </p:nvPicPr>
        <p:blipFill>
          <a:blip r:embed="rId4"/>
          <a:stretch/>
        </p:blipFill>
        <p:spPr>
          <a:xfrm>
            <a:off x="357120" y="571500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Импортирование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StarBoard предусмотрен набор функций для импорта текс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кст можно импортировать либо как единый объект, либо с построчной или пословной разбивк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696D-CF7C-4134-9A08-5AFDB91169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Калибровка электронного пер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выполнении калибровки для символа в середине экрана процесс калибровки завершаетс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сбоях и ошибках во время выполнения калибровки повторите процесс сначал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B1AD-102E-4AB3-9663-18A8C74F4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Импортирование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дельные текстовые объекты можно затем редактировать и переставлять обычным образ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оме того, можно импортировать форматированный текст, сохраняя исходное форматирование, например шриф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980E-AB90-4977-95CE-0A2EFAA28B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пособы импортирования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пируйте текст в буфер обмена Windows и затем вставьте его в документ StarBoar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вставке появится окно импортирования текс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0241-55A8-4004-9F84-1C9EB83FA9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пособы импортирования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56760" y="201780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тащите текст из программы Microsoft Word или из любого другого текстового редактора, совместимого с OLE, в окно StarBoar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вставке появится окно импортирования текс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6559-7247-431C-BFB8-C15F3CD5A9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ежимы импортирования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57120" y="2017800"/>
          <a:ext cx="8597880" cy="4305240"/>
        </p:xfrm>
        <a:graphic>
          <a:graphicData uri="http://schemas.openxmlformats.org/drawingml/2006/table">
            <a:tbl>
              <a:tblPr/>
              <a:tblGrid>
                <a:gridCol w="4299120"/>
                <a:gridCol w="4298760"/>
              </a:tblGrid>
              <a:tr h="446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ж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</a:tr>
              <a:tr h="3859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ый текстовый объе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 будет импортирован в документ как цельный редактируемый объект. Используется шрифт StarBoard по умолчанию. Высота текста устанавливается в 5% высоты экра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sp>
        <p:nvSpPr>
          <p:cNvPr id="544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E8D6-FD01-4CF7-B5EB-5A8D1B10CD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ежимы импортирования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57120" y="2071800"/>
          <a:ext cx="8501040" cy="4286160"/>
        </p:xfrm>
        <a:graphic>
          <a:graphicData uri="http://schemas.openxmlformats.org/drawingml/2006/table">
            <a:tbl>
              <a:tblPr/>
              <a:tblGrid>
                <a:gridCol w="3214800"/>
                <a:gridCol w="5286240"/>
              </a:tblGrid>
              <a:tr h="428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бить на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 будет разбит на отдельные слова. Используется шрифт StarBoard по умолчанию. Высота текста устанавливается в 5% высоты экрана. Текст разбивается на слова путем распознавания пробелов, знаков табуляции и концов стро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47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CCF0-7A5A-4860-A812-3DEA732C4E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ежимы импортирования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285840" y="2143080"/>
          <a:ext cx="8558280" cy="4286160"/>
        </p:xfrm>
        <a:graphic>
          <a:graphicData uri="http://schemas.openxmlformats.org/drawingml/2006/table">
            <a:tbl>
              <a:tblPr/>
              <a:tblGrid>
                <a:gridCol w="3214440"/>
                <a:gridCol w="5343840"/>
              </a:tblGrid>
              <a:tr h="428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бить на ст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 будет разбит на строки. Используется шрифт StarBoard по умолчанию. Высота текста устанавливается в 5% высоты экрана. Этот режим недоступен, если импортируемый текст состоит только из одной строки или если длина строки превышает 1024 симво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5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D0B-77BA-4120-9EBA-501DC3B80D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Режимы импортирования текста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214200" y="2017800"/>
          <a:ext cx="8740800" cy="4133880"/>
        </p:xfrm>
        <a:graphic>
          <a:graphicData uri="http://schemas.openxmlformats.org/drawingml/2006/table">
            <a:tbl>
              <a:tblPr/>
              <a:tblGrid>
                <a:gridCol w="2928960"/>
                <a:gridCol w="5811840"/>
              </a:tblGrid>
              <a:tr h="4133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т Windows Meta Fil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 будет вставлен в документ как единый нередактируемый объект. Исходное форматирование текста сохраняется. Этот режим недоступен, если импортируемые текстовые данные не содержат информации о форматировании (например, когда текст импортируется из программы Блокнот)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5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CACC-FBF5-4C54-A339-37B387CDD5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четания клави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85840" y="2143080"/>
          <a:ext cx="8501040" cy="1521000"/>
        </p:xfrm>
        <a:graphic>
          <a:graphicData uri="http://schemas.openxmlformats.org/drawingml/2006/table">
            <a:tbl>
              <a:tblPr/>
              <a:tblGrid>
                <a:gridCol w="3143160"/>
                <a:gridCol w="5357880"/>
              </a:tblGrid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чет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ba9c2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пир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7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5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BA57-7EDC-4F4D-8D39-DE3E789D5B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285840" y="3643200"/>
          <a:ext cx="8501040" cy="2008440"/>
        </p:xfrm>
        <a:graphic>
          <a:graphicData uri="http://schemas.openxmlformats.org/drawingml/2006/table">
            <a:tbl>
              <a:tblPr/>
              <a:tblGrid>
                <a:gridCol w="3143160"/>
                <a:gridCol w="5357880"/>
              </a:tblGrid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рез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995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ечатать текущую страниц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делить вс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четания клави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57120" y="2143080"/>
          <a:ext cx="8558280" cy="3040200"/>
        </p:xfrm>
        <a:graphic>
          <a:graphicData uri="http://schemas.openxmlformats.org/drawingml/2006/table">
            <a:tbl>
              <a:tblPr/>
              <a:tblGrid>
                <a:gridCol w="3571920"/>
                <a:gridCol w="4986360"/>
              </a:tblGrid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мен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ну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7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группир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группиров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ый текстовый объек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ал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60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9A06-9163-448B-AB4B-EB3E000CD8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4076"/>
                </a:solidFill>
                <a:latin typeface="Tahoma"/>
              </a:rPr>
              <a:t>Сочетания клавиш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285840" y="2143080"/>
          <a:ext cx="8629560" cy="3527640"/>
        </p:xfrm>
        <a:graphic>
          <a:graphicData uri="http://schemas.openxmlformats.org/drawingml/2006/table">
            <a:tbl>
              <a:tblPr/>
              <a:tblGrid>
                <a:gridCol w="3071880"/>
                <a:gridCol w="5557680"/>
              </a:tblGrid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ая стра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рыть файл материал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7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gDo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стра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6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g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ыдущая стра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rl+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ь список страни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  <a:tr h="993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+En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ключение полноэкранного режи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fff0"/>
                    </a:solidFill>
                  </a:tcPr>
                </a:tc>
              </a:tr>
            </a:tbl>
          </a:graphicData>
        </a:graphic>
      </p:graphicFrame>
      <p:sp>
        <p:nvSpPr>
          <p:cNvPr id="563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2270-CEEA-48AA-8AA3-028D43AEA4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6:03:54Z</dcterms:created>
  <dc:creator>БВА</dc:creator>
  <dc:description/>
  <dc:language>en-US</dc:language>
  <cp:lastModifiedBy>компьютер</cp:lastModifiedBy>
  <dcterms:modified xsi:type="dcterms:W3CDTF">2009-05-19T10:18:25Z</dcterms:modified>
  <cp:revision>119</cp:revision>
  <dc:subject/>
  <dc:title>Информация и информационные процессы</dc:title>
</cp:coreProperties>
</file>