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A3E-A222-433D-92ED-9B72E6BF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3C6-59EB-41BE-8DD4-06C65960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A6F-C6C1-48F0-A9FA-650D8FA7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B13-93B2-4EE3-92A3-A0316F28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829-CA6F-4B8A-A206-9B073707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CC3-E910-4B71-B446-D231DE6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08B-4B68-438D-9225-C5552262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E9F-A8B5-4AE0-998D-E44176F8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E30-2AFD-4103-B68A-5BFCB576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698-BC43-403A-B156-D062EDA2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435-B394-43A6-A477-D93FF14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400-40E0-4A5E-B72C-C95C55B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213-C73B-464B-98ED-1AA510E29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olencom.net/index.cfm?id=541" TargetMode="External"/><Relationship Id="rId3" Type="http://schemas.openxmlformats.org/officeDocument/2006/relationships/hyperlink" Target="http://www.olencom.net/index.cfm?id=541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olencom.net/index.cfm?id=537" TargetMode="External"/><Relationship Id="rId3" Type="http://schemas.openxmlformats.org/officeDocument/2006/relationships/hyperlink" Target="http://www.olencom.net/index.cfm?id=537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060640"/>
            <a:ext cx="86421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ек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лекоммуникационно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ти  доступ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ттеджного  посел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к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3336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пломник: Остякова А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8360" y="3284640"/>
            <a:ext cx="0" cy="93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0480" y="2755800"/>
            <a:ext cx="792000" cy="7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32400" y="1380960"/>
            <a:ext cx="2489040" cy="1686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38520" y="3235320"/>
            <a:ext cx="2482920" cy="16812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65520" y="2076120"/>
            <a:ext cx="2455920" cy="1028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572000" y="2717640"/>
            <a:ext cx="244944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450200" y="1197000"/>
            <a:ext cx="360360" cy="3887640"/>
            <a:chOff x="7450200" y="1197000"/>
            <a:chExt cx="360360" cy="3887640"/>
          </a:xfrm>
        </p:grpSpPr>
        <p:sp>
          <p:nvSpPr>
            <p:cNvPr id="50" name=""/>
            <p:cNvSpPr/>
            <p:nvPr/>
          </p:nvSpPr>
          <p:spPr>
            <a:xfrm>
              <a:off x="7450200" y="119700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50200" y="189072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0200" y="253836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50200" y="472428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008760" y="4195800"/>
            <a:ext cx="298440" cy="299880"/>
            <a:chOff x="6008760" y="4195800"/>
            <a:chExt cx="298440" cy="299880"/>
          </a:xfrm>
        </p:grpSpPr>
        <p:sp>
          <p:nvSpPr>
            <p:cNvPr id="55" name=""/>
            <p:cNvSpPr/>
            <p:nvPr/>
          </p:nvSpPr>
          <p:spPr>
            <a:xfrm>
              <a:off x="6008760" y="419580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70680" y="424944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110280" y="428760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08760" y="2719440"/>
            <a:ext cx="298440" cy="299880"/>
            <a:chOff x="6008760" y="2719440"/>
            <a:chExt cx="298440" cy="299880"/>
          </a:xfrm>
        </p:grpSpPr>
        <p:sp>
          <p:nvSpPr>
            <p:cNvPr id="59" name=""/>
            <p:cNvSpPr/>
            <p:nvPr/>
          </p:nvSpPr>
          <p:spPr>
            <a:xfrm>
              <a:off x="6008760" y="271944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070680" y="277308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10280" y="281124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08760" y="2284560"/>
            <a:ext cx="298440" cy="299880"/>
            <a:chOff x="6008760" y="2284560"/>
            <a:chExt cx="298440" cy="299880"/>
          </a:xfrm>
        </p:grpSpPr>
        <p:sp>
          <p:nvSpPr>
            <p:cNvPr id="63" name=""/>
            <p:cNvSpPr/>
            <p:nvPr/>
          </p:nvSpPr>
          <p:spPr>
            <a:xfrm>
              <a:off x="6008760" y="228456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070680" y="233820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110280" y="237636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008760" y="1811160"/>
            <a:ext cx="298440" cy="299880"/>
            <a:chOff x="6008760" y="1811160"/>
            <a:chExt cx="298440" cy="299880"/>
          </a:xfrm>
        </p:grpSpPr>
        <p:sp>
          <p:nvSpPr>
            <p:cNvPr id="67" name=""/>
            <p:cNvSpPr/>
            <p:nvPr/>
          </p:nvSpPr>
          <p:spPr>
            <a:xfrm>
              <a:off x="6008760" y="181116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0680" y="186480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10280" y="190296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352160" y="29718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8600" y="9208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8600" y="16286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38600" y="22766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38240" y="44434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2480" y="3152880"/>
            <a:ext cx="2333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043080"/>
            <a:ext cx="216000" cy="2160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03640" y="2997360"/>
            <a:ext cx="298440" cy="299880"/>
            <a:chOff x="3203640" y="2997360"/>
            <a:chExt cx="298440" cy="299880"/>
          </a:xfrm>
        </p:grpSpPr>
        <p:sp>
          <p:nvSpPr>
            <p:cNvPr id="78" name=""/>
            <p:cNvSpPr/>
            <p:nvPr/>
          </p:nvSpPr>
          <p:spPr>
            <a:xfrm>
              <a:off x="3203640" y="299736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265560" y="305100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305160" y="308916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420720" y="3213000"/>
            <a:ext cx="14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етв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720" y="3114720"/>
            <a:ext cx="0" cy="1322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087640" y="3031920"/>
            <a:ext cx="431640" cy="215640"/>
          </a:xfrm>
          <a:custGeom>
            <a:avLst/>
            <a:gdLst>
              <a:gd name="textAreaLeft" fmla="*/ 94680 w 431640"/>
              <a:gd name="textAreaRight" fmla="*/ 336960 w 4316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022880" y="4692600"/>
            <a:ext cx="428760" cy="432000"/>
            <a:chOff x="7022880" y="4692600"/>
            <a:chExt cx="428760" cy="432000"/>
          </a:xfrm>
        </p:grpSpPr>
        <p:sp>
          <p:nvSpPr>
            <p:cNvPr id="86" name=""/>
            <p:cNvSpPr/>
            <p:nvPr/>
          </p:nvSpPr>
          <p:spPr>
            <a:xfrm>
              <a:off x="7229520" y="490860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6914160" y="4800600"/>
              <a:ext cx="432000" cy="215640"/>
            </a:xfrm>
            <a:custGeom>
              <a:avLst/>
              <a:gdLst>
                <a:gd name="textAreaLeft" fmla="*/ 95040 w 432000"/>
                <a:gd name="textAreaRight" fmla="*/ 336960 w 43200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19640" y="2492280"/>
            <a:ext cx="428760" cy="432000"/>
            <a:chOff x="7019640" y="2492280"/>
            <a:chExt cx="428760" cy="432000"/>
          </a:xfrm>
        </p:grpSpPr>
        <p:sp>
          <p:nvSpPr>
            <p:cNvPr id="89" name=""/>
            <p:cNvSpPr/>
            <p:nvPr/>
          </p:nvSpPr>
          <p:spPr>
            <a:xfrm>
              <a:off x="7226280" y="270828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5400000">
              <a:off x="6910920" y="2600280"/>
              <a:ext cx="432000" cy="215640"/>
            </a:xfrm>
            <a:custGeom>
              <a:avLst/>
              <a:gdLst>
                <a:gd name="textAreaLeft" fmla="*/ 95040 w 432000"/>
                <a:gd name="textAreaRight" fmla="*/ 336960 w 43200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16400" y="1858680"/>
            <a:ext cx="428760" cy="431640"/>
            <a:chOff x="7016400" y="1858680"/>
            <a:chExt cx="428760" cy="431640"/>
          </a:xfrm>
        </p:grpSpPr>
        <p:sp>
          <p:nvSpPr>
            <p:cNvPr id="92" name=""/>
            <p:cNvSpPr/>
            <p:nvPr/>
          </p:nvSpPr>
          <p:spPr>
            <a:xfrm>
              <a:off x="7223040" y="207468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908040" y="1966680"/>
              <a:ext cx="431640" cy="215640"/>
            </a:xfrm>
            <a:custGeom>
              <a:avLst/>
              <a:gdLst>
                <a:gd name="textAreaLeft" fmla="*/ 94680 w 431640"/>
                <a:gd name="textAreaRight" fmla="*/ 336960 w 43164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013160" y="1172880"/>
            <a:ext cx="428760" cy="431640"/>
            <a:chOff x="7013160" y="1172880"/>
            <a:chExt cx="428760" cy="431640"/>
          </a:xfrm>
        </p:grpSpPr>
        <p:sp>
          <p:nvSpPr>
            <p:cNvPr id="95" name=""/>
            <p:cNvSpPr/>
            <p:nvPr/>
          </p:nvSpPr>
          <p:spPr>
            <a:xfrm>
              <a:off x="7219800" y="138888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6904800" y="1280880"/>
              <a:ext cx="431640" cy="215640"/>
            </a:xfrm>
            <a:custGeom>
              <a:avLst/>
              <a:gdLst>
                <a:gd name="textAreaLeft" fmla="*/ 94680 w 431640"/>
                <a:gd name="textAreaRight" fmla="*/ 336960 w 43164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>
            <a:off x="1258920" y="4221000"/>
            <a:ext cx="1009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105680" y="5059440"/>
            <a:ext cx="274680" cy="431640"/>
            <a:chOff x="7105680" y="5059440"/>
            <a:chExt cx="274680" cy="431640"/>
          </a:xfrm>
        </p:grpSpPr>
        <p:sp>
          <p:nvSpPr>
            <p:cNvPr id="99" name=""/>
            <p:cNvSpPr/>
            <p:nvPr/>
          </p:nvSpPr>
          <p:spPr>
            <a:xfrm>
              <a:off x="7105680" y="5059440"/>
              <a:ext cx="0" cy="431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05680" y="5491080"/>
              <a:ext cx="2746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22200" y="4437000"/>
            <a:ext cx="253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бельное телеви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утниковое телеви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еосер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47640" y="4076640"/>
            <a:ext cx="298440" cy="299880"/>
            <a:chOff x="1547640" y="4076640"/>
            <a:chExt cx="298440" cy="299880"/>
          </a:xfrm>
        </p:grpSpPr>
        <p:sp>
          <p:nvSpPr>
            <p:cNvPr id="103" name=""/>
            <p:cNvSpPr/>
            <p:nvPr/>
          </p:nvSpPr>
          <p:spPr>
            <a:xfrm>
              <a:off x="1547640" y="407664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609560" y="413028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649160" y="416844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502400" y="5492880"/>
            <a:ext cx="12384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05720" y="5229360"/>
            <a:ext cx="498600" cy="436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786800" y="5380200"/>
            <a:ext cx="623880" cy="20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8532720" y="5692680"/>
            <a:ext cx="4399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5400000">
            <a:off x="7347600" y="5342040"/>
            <a:ext cx="190440" cy="2844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650920" y="5661000"/>
            <a:ext cx="186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тоэлектронный преобразов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244000" y="3933720"/>
            <a:ext cx="571320" cy="768600"/>
            <a:chOff x="8244000" y="3933720"/>
            <a:chExt cx="571320" cy="76860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8244000" y="4175280"/>
              <a:ext cx="5713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315280" y="3933720"/>
              <a:ext cx="4392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812000" y="5084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50000" y="335592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66320" y="49244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42800">
            <a:off x="2033280" y="3979080"/>
            <a:ext cx="4788360" cy="259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7937"/>
                </a:moveTo>
                <a:arcTo wR="10800" hR="10800" stAng="-9877674" swAng="8837320"/>
                <a:lnTo>
                  <a:pt x="10800" y="10800"/>
                </a:lnTo>
                <a:close/>
              </a:path>
              <a:path fill="none" w="21600" h="21600">
                <a:moveTo>
                  <a:pt x="386" y="7937"/>
                </a:moveTo>
                <a:arcTo wR="10800" hR="10800" stAng="-9877674" swAng="8837320"/>
              </a:path>
            </a:pathLst>
          </a:custGeom>
          <a:noFill/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32120" y="3727440"/>
            <a:ext cx="142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50 - 156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921840" y="2565360"/>
            <a:ext cx="11945520" cy="633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00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00339"/>
              </a:path>
            </a:pathLst>
          </a:custGeom>
          <a:noFill/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4087080" y="2781360"/>
            <a:ext cx="11844360" cy="633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00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00339"/>
              </a:path>
            </a:pathLst>
          </a:custGeom>
          <a:noFill/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4440" y="2658960"/>
            <a:ext cx="86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49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1640" y="3429000"/>
            <a:ext cx="86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31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89000"/>
            <a:ext cx="78483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900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ая  структурная  схе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900ff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30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ф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58770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ьютерная приставка к 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37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357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12000" y="47242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47962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1600200"/>
          <a:ext cx="4029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029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 txBox="1"/>
          <p:nvPr/>
        </p:nvSpPr>
        <p:spPr>
          <a:xfrm>
            <a:off x="395280" y="260280"/>
            <a:ext cx="83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и кабел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3168720" cy="16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716360" y="3716280"/>
          <a:ext cx="4248360" cy="2732040"/>
        </p:xfrm>
        <a:graphic>
          <a:graphicData uri="http://schemas.openxmlformats.org/drawingml/2006/table">
            <a:tbl>
              <a:tblPr/>
              <a:tblGrid>
                <a:gridCol w="3384720"/>
                <a:gridCol w="863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птических волокон в кабе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—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 кабеля, м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—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кабеля, кг/к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—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радиус изгиба, м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—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продольному растяжению, к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—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раздавливающим усилиям, кН/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—1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удару, Дж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ый диапазон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эксплуатация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рокладка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…+ 70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5…+ 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8000" y="2924280"/>
          <a:ext cx="4370400" cy="3595680"/>
        </p:xfrm>
        <a:graphic>
          <a:graphicData uri="http://schemas.openxmlformats.org/drawingml/2006/table">
            <a:tbl>
              <a:tblPr/>
              <a:tblGrid>
                <a:gridCol w="3384360"/>
                <a:gridCol w="9860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птических волокон в кабе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птических волокон в моду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одулей в кабе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лементов в повиве сердеч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ьный наружный диаметр кабеля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 –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кабеля, кг/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 – 3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радиус изгиба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 – 2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продольному растяжению, к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 – 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раздавливающим усилиям, кН/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– 1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ударам, Д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ый диапаз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при эксплуатации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 прокладке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0 … +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 … +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398880" y="263628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 марки СКО-ОПС-008Е04-04-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240" y="342828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 марки СКО-ОПТ-002Е04-04-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280" y="906120"/>
            <a:ext cx="5029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ПБТ-ПА трубка со свободно уложенными 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 гидрофобным гел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Межмодульный гидрофобный заполнит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Армирование стальными оцинкованными проволо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Наружная черная ПЭ оболочка с маркиров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716360" y="1989000"/>
            <a:ext cx="1511280" cy="1427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27640" y="2060640"/>
            <a:ext cx="259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Полимерная трубка с    гидрофобным ге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Диэлектрический силовой эле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Наружная оболоч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68360" y="1197000"/>
          <a:ext cx="8207280" cy="5465520"/>
        </p:xfrm>
        <a:graphic>
          <a:graphicData uri="http://schemas.openxmlformats.org/drawingml/2006/table">
            <a:tbl>
              <a:tblPr/>
              <a:tblGrid>
                <a:gridCol w="546120"/>
                <a:gridCol w="3270240"/>
                <a:gridCol w="2087640"/>
                <a:gridCol w="1224000"/>
                <a:gridCol w="1079280"/>
              </a:tblGrid>
              <a:tr h="291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ёты затух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волокна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5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U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волны, н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затухания волок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/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тическая диспе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/нм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ли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осимое волокном затух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потери в срос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ро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 потери в срост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 в сростках при ремон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онный зап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потери в соедините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оедин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 потери в соедините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 разветвления 1 :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потери в лини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ые по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очный запас по затух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 txBox="1"/>
          <p:nvPr/>
        </p:nvSpPr>
        <p:spPr>
          <a:xfrm>
            <a:off x="53964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чёт затухания для максимальн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далённого до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19640" y="4365720"/>
            <a:ext cx="3695760" cy="171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1194840"/>
            <a:ext cx="50767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BS 1000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это компактное  высокопроизводительное устройство, предназначенное для построения оптических сетей доступа на базе технологии EPON. Данный концентратор совместно с оптическим терминальным оборудованием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UTStarcom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 ONU 10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является завершенным решением для организации сетей доступа на базе технологии Ethernet с гигабитной пропускной способностью на участке последней м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1195200"/>
            <a:ext cx="3384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BS 1000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ет до 8 PON интерфейсов. Каждый PON интерфейс способен передавать трафик со скоростью 1.25 Гбит/с, который может распределяться между 64 терминальными устройствами. Таким образом, небольшой концентратор  в корпусе 1U может обслуживать максимально до 512 абонент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354840"/>
            <a:ext cx="46814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sco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обный интерфейс 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 EPON на базе стандарта IEEE 802.3 a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 Древовидная структура, поддерживающая до 64 подклю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 Дальность передачи до 20 км для 32 подключений и 10 км для 64 подклю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 До 512 терминальных устройств обслуживаются одним компактным концентрато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 Индивидуализированная тарификация в зависимости от соглашения об уровне обслужи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Удаленное упра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33336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BS 1000, концентратор EP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298960" cy="2521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50920" y="260280"/>
            <a:ext cx="864216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ONU 100, терминальное устройство EP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341000"/>
            <a:ext cx="864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ONU 10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это бюджетное терминальное устройство, предназначенное для построения оптических сетей доступа на базе технологии EPON. Данное терминальное оборудование совместно с оптическим концентратором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UTStarcom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 BBS 10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являются завершенным решением для организации сетей доступа на базе технологии Ethernet с гигабитной пропускной способностью на отрезке последней м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429000"/>
            <a:ext cx="547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тически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Оптоволокно – одномодо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Разделение потока о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нтерфейса - до 32 ответ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Скорость передачи – симметричные восходящий и нисходящий потоки по 1 Гбит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 Оптический бюджет – 27 д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Длины волн: передач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- 1310 нм, приём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- 1490н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50920" y="1413000"/>
          <a:ext cx="8496360" cy="4816440"/>
        </p:xfrm>
        <a:graphic>
          <a:graphicData uri="http://schemas.openxmlformats.org/drawingml/2006/table">
            <a:tbl>
              <a:tblPr/>
              <a:tblGrid>
                <a:gridCol w="4125960"/>
                <a:gridCol w="987120"/>
                <a:gridCol w="1579680"/>
                <a:gridCol w="1803600"/>
              </a:tblGrid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 /                  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. обозн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ере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то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S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инальное   устройств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U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0, сплит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аб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конно-оп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С-008Е04-04-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-002Е04-04-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передачи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бит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ая длина волны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, 1490, 1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, 1490, 1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организуемых   каналов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яжённость трассы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ьные вложения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ые эксплуатационные  расходы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окупаемости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568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260280"/>
            <a:ext cx="849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хнико-экономические показате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5:49:29Z</dcterms:created>
  <dc:creator>Кафедра20</dc:creator>
  <dc:description/>
  <dc:language>en-US</dc:language>
  <cp:lastModifiedBy>7</cp:lastModifiedBy>
  <dcterms:modified xsi:type="dcterms:W3CDTF">2007-06-06T15:59:11Z</dcterms:modified>
  <cp:revision>11</cp:revision>
  <dc:subject/>
  <dc:title>Слайд 1</dc:title>
</cp:coreProperties>
</file>